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2B7A3-C45E-4F21-9B89-4E7E0509F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4C439-F2EE-4CDD-B51B-425FC7015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2FD04-E922-413C-A48B-3FBB73E09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0AD35-F576-474F-97A7-E018669B7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39A59-B6AC-44CD-A2B1-2CAC7D398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53B3E-2EC4-4105-9A8B-16DF27EE7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371B2-403B-47E7-9124-A1C49B52D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C5EF6-1565-45DD-B016-BECE4F56B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A7EEF-EDC2-4ED2-AD44-E177E2233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1E4B3-F785-426E-AC26-BF28FB215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A28FA-B948-4869-9CAD-DF7B79A38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6866D-7731-4A35-8DC1-A5A3B0026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B6548-8104-49FB-980B-45D340AE5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89FF4-E802-4790-963C-34BA60559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4C702-55A0-45CA-9506-3357A50E7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73FE6-826E-4A8C-99FE-B7273B4D5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610B3-8469-436F-9988-5FAD03895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67C25-4433-4C1E-A871-73F31F4E7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1ABCE-3BA4-4A80-85C7-6FD3B997F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EE871-14A8-4902-85D5-AFBA2F110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C5F93-5714-4547-8AFB-DA228941A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4911-68D5-40FF-8CD9-9E7B4260C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C5559-CED8-44C8-9398-0CF28E7F3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FC6B-1CDD-4E6D-8283-778269B20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6C11-5464-4C77-BA18-92478E7E3483}"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472F-CEAE-4B15-A9A2-5759FB20FF9D}"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Black"/>
              </a:rPr>
              <a:t>LE SOCIETA’ COOPERATIVE</a:t>
            </a:r>
            <a:endParaRPr b="0" lang="en-US" sz="4400" spc="-1" strike="noStrike">
              <a:solidFill>
                <a:srgbClr val="333399"/>
              </a:solidFill>
              <a:latin typeface="Tahoma"/>
            </a:endParaRPr>
          </a:p>
        </p:txBody>
      </p:sp>
      <p:sp>
        <p:nvSpPr>
          <p:cNvPr id="100"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a cura di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michele ciacciofer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Principi cardine erano i seguenti</a:t>
            </a:r>
            <a:r>
              <a:rPr b="0" lang="it-IT"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principio della  variabilità  del capitale</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unicità del voto indipendentemente dalla partecipazione posseduta (art. 225)</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limite massimo di valore della quota (art. 224)</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norme per libertà di recesso e di esclusione dei soci.</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ta soltanto una &lt;&lt;società a capitale variabile&gt;&gt;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mancanza del principio di mutualità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acilita proliferazione di  cooperative &lt;&lt;artificiali&gt;&gt; solo scopo fruire agevolazioni  di legge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atena reazione commercianti che accusano illegittima concorrenza  cooperator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type="subTitle"/>
          </p:nvPr>
        </p:nvSpPr>
        <p:spPr>
          <a:xfrm>
            <a:off x="1042560" y="3428640"/>
            <a:ext cx="77202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dottrina e giurisprudenza esigenza ristrutturazione legislativa</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legge speciale 15 aprile 1886 n. 3818</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1182600" y="2496600"/>
            <a:ext cx="7772400" cy="363564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costituzione legale delle società operaie di mutuo soccorso aventi scopi previdenziali e assistenziali.</a:t>
            </a:r>
            <a:endParaRPr b="0" lang="en-US" sz="2800" spc="-1" strike="noStrike">
              <a:solidFill>
                <a:srgbClr val="000000"/>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l’associazionismo solidaristico senza esercizio di impresa  - società di mutuo soccorso &gt;&g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associazionismo che realizza mutualità attraverso attività economiche - le cooperative&gt;&g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i interventi legislativi in materia di cooperazion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755640" y="2214360"/>
            <a:ext cx="8012160" cy="41670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7 luglio 1907, n. 256  disposizioni a favore delle piccole società cooperative   agricole  e delle piccole associazioni  agricole di mutua assicurazion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25 giugno 1909, n. 422 cooperative di produzione e lavoro e loro consorzi ammessi ai pubblici appalti e relativo regolamento approvato con </a:t>
            </a:r>
            <a:r>
              <a:rPr b="1" lang="it-IT" sz="2800" spc="-1" strike="noStrike">
                <a:solidFill>
                  <a:srgbClr val="000000"/>
                </a:solidFill>
                <a:latin typeface="Tahoma"/>
                <a:ea typeface="Times New Roman"/>
              </a:rPr>
              <a:t>r.d. 12 febbraio 1911, n. 278.(Registro Prefettizio)</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3 agosto 1926 n. 1554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relative alla liquidazione dei consorzi</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1 dicembre 1930 n. 1882</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dirette a rendere più efficiente la vigilanza governativa sulle società cooper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809640" y="2133720"/>
            <a:ext cx="7958160" cy="3743280"/>
          </a:xfrm>
          <a:prstGeom prst="rect">
            <a:avLst/>
          </a:prstGeom>
          <a:noFill/>
          <a:ln w="0">
            <a:noFill/>
          </a:ln>
        </p:spPr>
        <p:txBody>
          <a:bodyPr lIns="90000" rIns="90000" tIns="46800" bIns="46800" anchor="t">
            <a:normAutofit/>
          </a:bodyPr>
          <a:p>
            <a:pPr marL="539640" indent="0" algn="just">
              <a:lnSpc>
                <a:spcPct val="80000"/>
              </a:lnSpc>
              <a:spcBef>
                <a:spcPts val="601"/>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 26 luglio 1937, n. 1706, t.u. sulle casse rurali ed artigian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d. 28 aprile 1938, n. 1165 t.u. delle leggi sull’edilizia economica e popolar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l. 8 luglio 1937 , n. 1343 conv. in le. 13 gennaio 1938, n. 85 -  assemblee separate - per cooperative con oltre cinquecento soci  e attività in più comuni</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676160" y="3200040"/>
            <a:ext cx="6662520" cy="1725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riforma della disciplina delle cooperative  emanata con il  codice civile del 1942 (artt. 2511-2545 c.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novità importante rispetto alla previgente</a:t>
            </a:r>
            <a:r>
              <a:rPr b="0"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discipli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previsione dello &lt;&lt;scopo mutualistico&gt;&g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elemento distintivo della cooperativa rispetto agli altri tipi di società.</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cooperativa</a:t>
            </a:r>
            <a:r>
              <a:rPr b="0" lang="it-IT" sz="3000" spc="-1" strike="noStrike">
                <a:solidFill>
                  <a:srgbClr val="333399"/>
                </a:solidFill>
                <a:latin typeface="Tahoma"/>
                <a:ea typeface="Times New Roman"/>
              </a:rPr>
              <a:t>, dopo riforma, nuovo tipo di società caratterizzata:</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a scopo mutualistico </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ul piano sostanziale non era data in concreto alcuna definizione dello scopo mutualistico, anzi l’unica definizione era affidata ad un passo della relazione del  Guardasigilli (n. 1025) che intravedeva nello scopo mutualistico quello di &lt;&lt; fornire beni o servizi od occasioni di lavoro direttamente ai membri della organizzazione a condizioni più vantaggiose di quelle che otterrebbero dal mercato&gt;&g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 </a:t>
            </a:r>
            <a:r>
              <a:rPr b="0" lang="it-IT" sz="4400" spc="-1" strike="noStrike">
                <a:solidFill>
                  <a:srgbClr val="3333cc"/>
                </a:solidFill>
                <a:latin typeface="Arial Black"/>
                <a:ea typeface="Times New Roman"/>
              </a:rPr>
              <a:t>CIVI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egime democratico e repubblicano</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1948 - </a:t>
            </a:r>
            <a:r>
              <a:rPr b="0" lang="it-IT" sz="3200" spc="-1" strike="noStrike">
                <a:solidFill>
                  <a:srgbClr val="000000"/>
                </a:solidFill>
                <a:latin typeface="Tahoma"/>
                <a:ea typeface="Times New Roman"/>
              </a:rPr>
              <a:t>primo provvedimento carattere generale l’art. 45 della Costituzione la cui formulazione definitiva precede il </a:t>
            </a:r>
            <a:r>
              <a:rPr b="1" lang="it-IT" sz="3200" spc="-1" strike="noStrike">
                <a:solidFill>
                  <a:srgbClr val="000000"/>
                </a:solidFill>
                <a:latin typeface="Tahoma"/>
                <a:ea typeface="Times New Roman"/>
              </a:rPr>
              <a:t>D.lgs C.p.S. 14 dicembre 1947, n. 1577 </a:t>
            </a:r>
            <a:r>
              <a:rPr b="0" lang="it-IT" sz="3200" spc="-1" strike="noStrike">
                <a:solidFill>
                  <a:srgbClr val="000000"/>
                </a:solidFill>
                <a:latin typeface="Tahoma"/>
                <a:ea typeface="Times New Roman"/>
              </a:rPr>
              <a:t>.</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333399"/>
                </a:solidFill>
                <a:latin typeface="Tahoma"/>
              </a:rPr>
              <a:t>Art. 45</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epubblica riconosce la funzione sociale della cooperazione a carattere di mutualità e senza fini di speculazione privata. La legge ne promuove e favorisce l’incremento con i mezzi più idonei e ne assicura con gli opportuni controlli il carattere e le finalità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innovazioni fondamental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iconoscimento della &lt;&lt;funzione sociale delle cooperative a carattere di mutualità e senza fini di speculazione privata&gt;&gt;</a:t>
            </a:r>
            <a:endParaRPr b="0" lang="en-US" sz="28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mpegno dello  Stato a promuovere e a favorire  l’incremento &lt;&lt;assicurandone con gli opportuni controlli i caratteri e le finalità&gt;&gt;</a:t>
            </a:r>
            <a:r>
              <a:rPr b="0" lang="it-IT" sz="2800" spc="-1" strike="noStrike">
                <a:solidFill>
                  <a:srgbClr val="000000"/>
                </a:solidFill>
                <a:latin typeface="Tahoma"/>
              </a:rPr>
              <a:t> </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Importanti provvedimenti per progresso rispetto alla normativa precedente disciplinano</a:t>
            </a:r>
            <a:endParaRPr b="0" lang="en-US" sz="3000" spc="-1" strike="noStrike">
              <a:solidFill>
                <a:srgbClr val="333399"/>
              </a:solidFill>
              <a:latin typeface="Tahoma"/>
            </a:endParaRPr>
          </a:p>
        </p:txBody>
      </p:sp>
      <p:sp>
        <p:nvSpPr>
          <p:cNvPr id="144" name="PlaceHolder 2"/>
          <p:cNvSpPr>
            <a:spLocks noGrp="1"/>
          </p:cNvSpPr>
          <p:nvPr>
            <p:ph/>
          </p:nvPr>
        </p:nvSpPr>
        <p:spPr>
          <a:xfrm>
            <a:off x="1182600" y="2496600"/>
            <a:ext cx="7772400" cy="32324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inzione, nel profitto d’impresa, tra dividendi e ristor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estinazione degli utili a scopi di previdenza, mutualità di cooperazione e di istruzion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mitazioni all’attività con i non so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REQUISITI MUTUALISTICI</a:t>
            </a:r>
            <a:br>
              <a:rPr sz="4000"/>
            </a:br>
            <a:r>
              <a:rPr b="1" lang="it-IT" sz="2800" spc="-1" strike="noStrike">
                <a:solidFill>
                  <a:srgbClr val="333399"/>
                </a:solidFill>
                <a:latin typeface="Tahoma"/>
              </a:rPr>
              <a:t>art. 26 d.lgs.C.p.s. n. 1577/1947</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i dividendi superiori alla ragione dell’interesse legale ragguagliato al capitale effettivamente versat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elle riserve fra i soci durante la vita social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voluzione, in caso di scioglimento della società, dell’intero patrimonio sociale – dedotto soltanto il capitale versato e i dividendi eventualmente maturati – a scopi di pubblica utilità conformi allo spirito mutualistic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371600" y="4272120"/>
            <a:ext cx="6400800" cy="7128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Ulteriori previsioni:</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160360"/>
            <a:ext cx="7772400" cy="3971880"/>
          </a:xfrm>
          <a:prstGeom prst="rect">
            <a:avLst/>
          </a:prstGeom>
          <a:noFill/>
          <a:ln w="0">
            <a:noFill/>
          </a:ln>
        </p:spPr>
        <p:txBody>
          <a:bodyPr lIns="90000" rIns="90000" tIns="46800" bIns="46800" anchor="t">
            <a:normAutofit/>
          </a:bodyPr>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numero minimo di soci (almeno nove)</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equisiti soggettivi dei soci</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troduzione di norme a tutela della &lt;&lt;porta aperta&gt;&gt;</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icorso per gli aspiranti soci agli organi di controllo contro il rifiuto ingiustificato di ammissione.</a:t>
            </a:r>
            <a:endParaRPr b="0" lang="en-US" sz="2800" spc="-1" strike="noStrike">
              <a:solidFill>
                <a:srgbClr val="000000"/>
              </a:solidFill>
              <a:latin typeface="Tahoma"/>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lgs. C.p.S. n. 1421 del 15 dicembre 1947</a:t>
            </a:r>
            <a:endParaRPr b="0" lang="en-US" sz="4400" spc="-1" strike="noStrike">
              <a:solidFill>
                <a:srgbClr val="333399"/>
              </a:solidFill>
              <a:latin typeface="Tahoma"/>
            </a:endParaRPr>
          </a:p>
        </p:txBody>
      </p:sp>
      <p:sp>
        <p:nvSpPr>
          <p:cNvPr id="152" name="PlaceHolder 2"/>
          <p:cNvSpPr>
            <a:spLocks noGrp="1"/>
          </p:cNvSpPr>
          <p:nvPr>
            <p:ph/>
          </p:nvPr>
        </p:nvSpPr>
        <p:spPr>
          <a:xfrm>
            <a:off x="826920" y="2276280"/>
            <a:ext cx="7958160" cy="3889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disposizioni per il credito alla cooperazion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stituita una sezione speciale di credito alla cooperazione presso la Banca Nazionale del Lavoro</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po concessione credito a favore delle  cooperative e dei loro consorz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e norme da ricordar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10 febbraio 1948, n. 105 - disposizioni sull’ordinamento delle banche popolari </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7 maggio 1948 , n. 1235 sull’ordinamento dei consorzi agrar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Grande importanza</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imes New Roman"/>
              </a:rPr>
              <a:t>L. 17 febbraio 1971 n. 127  (c.d. miniriforma)</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35880" indent="-3358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detta norme sul potenziamento economico delle cooperative attraverso l’elevazione del limite massimo delle quote di partecipazione di ciascun socio e nel contempo del limite minimo e massimo del valore nominale di ciascuna quota o azione (art. 3); </a:t>
            </a:r>
            <a:endParaRPr b="0" lang="en-US" sz="2800" spc="-1" strike="noStrike">
              <a:solidFill>
                <a:srgbClr val="000000"/>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continua)</a:t>
            </a:r>
            <a:endParaRPr b="0" lang="en-US" sz="20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Brush Script MT"/>
                <a:ea typeface="Times New Roman"/>
              </a:rPr>
              <a:t>La cooperativa è una società con scopo mutualistico alla quale è riconosciuta una funzione sociale. I soci non mirano ad un guadagno secondo la logica delle società, ma ad un vantaggio econom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8" name="PlaceHolder 2"/>
          <p:cNvSpPr>
            <a:spLocks noGrp="1"/>
          </p:cNvSpPr>
          <p:nvPr>
            <p:ph/>
          </p:nvPr>
        </p:nvSpPr>
        <p:spPr>
          <a:xfrm>
            <a:off x="809640" y="2204640"/>
            <a:ext cx="7958160" cy="4248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ancisce principio dell’assoluta intrasformabilità delle società cooperative in società lucrative (art. 14)</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completa disciplina dei consorzi di cooperative</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fissa la delega alla partecipazione alle assemblee delle cooperative agricole di parenti e il diritto di questi ultimi di essere eletti alle cariche sociali; </a:t>
            </a:r>
            <a:endParaRPr b="0" lang="en-US" sz="2800" spc="-1" strike="noStrike">
              <a:solidFill>
                <a:srgbClr val="000000"/>
              </a:solidFill>
              <a:latin typeface="Tahoma"/>
            </a:endParaRPr>
          </a:p>
          <a:p>
            <a:pPr marL="308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continu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affida al Ministero del lavoro e della previdenza sociale in collaborazione con le associazioni nazionali di rappresentanza, dell’assistenza e della tutela del movimento cooperativo, del compito della diffusione dei principi cooperativi.</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3399"/>
              </a:solidFill>
              <a:latin typeface="Tahoma"/>
              <a:ea typeface="Times New Roman"/>
            </a:endParaRPr>
          </a:p>
        </p:txBody>
      </p:sp>
      <p:sp>
        <p:nvSpPr>
          <p:cNvPr id="162" name="PlaceHolder 2"/>
          <p:cNvSpPr>
            <a:spLocks noGrp="1"/>
          </p:cNvSpPr>
          <p:nvPr>
            <p:ph/>
          </p:nvPr>
        </p:nvSpPr>
        <p:spPr>
          <a:xfrm>
            <a:off x="1211040" y="2012760"/>
            <a:ext cx="7738920" cy="411948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2 aprile 1973 n. 256</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stituisce Bollettino ufficiale delle società cooperative (B.U.S.C.) in sostituzione della sezione autonoma del B.U.S.A.R.L.</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7 luglio 1975, n. 400</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 le norme per accelerare la procedura della liquidazione coatta amministrativa per gli enti cooperativi in caso di disses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P.R. 10 febbraio 1986, n. 30</a:t>
            </a:r>
            <a:endParaRPr b="0" lang="en-US" sz="4400" spc="-1" strike="noStrike">
              <a:solidFill>
                <a:srgbClr val="333399"/>
              </a:solidFill>
              <a:latin typeface="Tahoma"/>
            </a:endParaRPr>
          </a:p>
        </p:txBody>
      </p:sp>
      <p:sp>
        <p:nvSpPr>
          <p:cNvPr id="164" name="PlaceHolder 2"/>
          <p:cNvSpPr>
            <a:spLocks noGrp="1"/>
          </p:cNvSpPr>
          <p:nvPr>
            <p:ph/>
          </p:nvPr>
        </p:nvSpPr>
        <p:spPr>
          <a:xfrm>
            <a:off x="809640" y="2214360"/>
            <a:ext cx="808344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ntroduce &lt;&lt;modificazioni alla disciplina delle società per azioni , in accomandita per azioni , a responsabilità limitata e cooperative, in attuazione delle direttive del Consiglio delle Comunità europee n. 77/91 del 13 dicembre 1976, ai sensi della legge 8 agosto 1985, n. 412&gt;&g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809280" y="2214360"/>
            <a:ext cx="8155080" cy="3881160"/>
          </a:xfrm>
          <a:prstGeom prst="rect">
            <a:avLst/>
          </a:prstGeom>
          <a:noFill/>
          <a:ln w="0">
            <a:noFill/>
          </a:ln>
        </p:spPr>
        <p:txBody>
          <a:bodyPr lIns="90000" rIns="90000" tIns="46800" bIns="46800" anchor="t">
            <a:normAutofit/>
          </a:bodyPr>
          <a:p>
            <a:pPr marL="343080" indent="0">
              <a:spcBef>
                <a:spcPts val="799"/>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001"/>
              </a:spcBef>
              <a:buClr>
                <a:srgbClr val="3333cc"/>
              </a:buClr>
              <a:buSzPct val="6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rPr>
              <a:t>Legge 31 gennaio 1992 n. 59</a:t>
            </a:r>
            <a:endParaRPr b="0" lang="en-US" sz="4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a:t>
            </a:r>
            <a:r>
              <a:rPr b="1" lang="it-IT" sz="3000" spc="-1" strike="noStrike">
                <a:solidFill>
                  <a:srgbClr val="000000"/>
                </a:solidFill>
                <a:latin typeface="Tahoma"/>
              </a:rPr>
              <a:t>Nuove norme in materia di società cooperative”</a:t>
            </a: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d.lgs 1 settembre 1993, n. 385 </a:t>
            </a:r>
            <a:endParaRPr b="0" lang="en-US" sz="30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Testo Unico in materia bancaria e creditizia)</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8 ss. delle banche popolari e delle banche di credito cooperativo (ex casse rurali e artigiane).</a:t>
            </a:r>
            <a:endParaRPr b="0" lang="en-US" sz="24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L 7 agosto 1997, n. 266 (legge Bersani)</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400" spc="-1" strike="noStrike">
                <a:solidFill>
                  <a:srgbClr val="000000"/>
                </a:solidFill>
                <a:latin typeface="Tahoma"/>
              </a:rPr>
              <a:t>introduce  nel nostro ordinamento la &lt;&lt;piccola società cooperativa&gt;&g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pprime il B.U.S.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L. 28 dicembre 1998, n. 448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finanziaria 1999)</a:t>
            </a: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58 introduce per le società cooperative la possibilità di emettere obbligazioni</a:t>
            </a:r>
            <a:endParaRPr b="0" lang="en-US" sz="24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sa che il ricorso a questa forma di finanziamento non viola il divieto di raccolta del risparmio fra il pubblico fissato dall’art. 11, comma 2, del testo unico bancar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809640" y="2214720"/>
            <a:ext cx="795816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30 aprile 1999 n. 136</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4 novembre 2000 n. 340</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rt. 32 abroga i commi terzo e quarto dell’art. 2330 c.c. in tema di omologazione dell’atto costitutivo delle società;</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3 dicembre 2000 n. 388 (Finanziaria 2001)</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pretazione autentica dell’art. 26 del d.lgs. C.p.S. n. 1577 del 1947 e dell’art. 11, comma 5, della l. n. 59/1992.</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333399"/>
                </a:solidFill>
                <a:uFillTx/>
                <a:latin typeface="Tahoma"/>
              </a:rPr>
              <a:t>La legge 59/92</a:t>
            </a:r>
            <a:br>
              <a:rPr sz="3400"/>
            </a:br>
            <a:r>
              <a:rPr b="1" lang="it-IT" sz="3400" spc="-1" strike="noStrike">
                <a:solidFill>
                  <a:srgbClr val="333399"/>
                </a:solidFill>
                <a:latin typeface="Tahoma"/>
              </a:rPr>
              <a:t>"Nuove norme in materia di società cooperative"</a:t>
            </a:r>
            <a:endParaRPr b="0" lang="en-US" sz="3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vità nella vita e nella struttura della cooperazione </a:t>
            </a:r>
            <a:endParaRPr b="0" lang="en-US" sz="2800" spc="-1" strike="noStrike">
              <a:solidFill>
                <a:srgbClr val="000000"/>
              </a:solidFill>
              <a:latin typeface="Tahoma"/>
            </a:endParaRPr>
          </a:p>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si una vera e propria "riforma" legislativa </a:t>
            </a:r>
            <a:endParaRPr b="0" lang="en-US" sz="28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 e 2 ampliano e definiscono meglio i diritti dei soci imponendo agli amministratori e ai sindaci una maggiore trasparenza operativa.</a:t>
            </a:r>
            <a:endParaRPr b="0" lang="en-US" sz="24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3 al 9 mirano a facilitare la patrimonializzazione della cooper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cio sovventore e socio titolare di azioni di partecipazione cooperativa (cd. soci finanziator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figure particolari di socio - non partecipano allo scambio mutualistico - si limitano a conferire capital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posizione socio ordinario socio finanziatore sono cumulabili nella stessa persona</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mistione tra aspetto mutualistico e aspetto lucrativo</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0 adegua l’ammontare massimo di prestito sociale i cui utili possono godere delle agevolazioni fiscali dettate all’art. 13 D.P.R. n. 601/73.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EVOLUZIONE   LEGISLATIVA  DELLE IMPRESE COOPERATIVE</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1 e 12 istituiscono e disciplinano i Fondi mutualistici per la promozione e lo sviluppo della cooperazione con il versamento, tra l’altro, del 3% degli utili annui realizzati dalle cooperative, dal patrimonio residuo delle cooperative disciolte ed eventuali versamenti di terzi (soggetti privati o pubblici), nonché dalla devoluzione obbligatoria del patrimonio effettivo delle cooperative che abbiano soppresso le clausole statutarie relative ai requisiti mutualistici, o siano decadute dai benefici fisca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5 introduce novità in materia di vigilanza con l’ispezione ordinaria annuale (comma 1) e la certificazione di bilancio (comma 2) per la cooperative che superino determinati parametri.</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21, comma 1, consente a cooperative e consorzi di recepire nei rispettivi statuti le norme della legge &lt;&lt;con le stesse modalità e maggioranze previste per le deliberazioni dell’assemblea ordinaria&gt;&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 particolare:</a:t>
            </a:r>
            <a:endParaRPr b="0" lang="en-US" sz="3200" spc="-1" strike="noStrike">
              <a:solidFill>
                <a:srgbClr val="000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a:t>
            </a:r>
            <a:r>
              <a:rPr b="0" lang="it-IT" sz="2800" spc="-1" strike="noStrike">
                <a:solidFill>
                  <a:srgbClr val="000000"/>
                </a:solidFill>
                <a:latin typeface="Tahoma"/>
              </a:rPr>
              <a:t>	</a:t>
            </a:r>
            <a:r>
              <a:rPr b="0" lang="it-IT" sz="2800" spc="-1" strike="noStrike">
                <a:solidFill>
                  <a:srgbClr val="000000"/>
                </a:solidFill>
                <a:latin typeface="Tahoma"/>
              </a:rPr>
              <a:t>	</a:t>
            </a:r>
            <a:r>
              <a:rPr b="0" lang="it-IT" sz="2400" spc="-1" strike="noStrike">
                <a:solidFill>
                  <a:srgbClr val="000000"/>
                </a:solidFill>
                <a:latin typeface="Tahoma"/>
              </a:rPr>
              <a:t>il valore nominale di ciascuna azione non può essere superiore a lire un milione, salvo quanto disposto da leggi speciali per particolari categorie di enti cooperativi. (Art.3 legge 59/92 comma terzo);</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distribuzione degli utili deve avvenire nel rispetto del nuovo testo dell'art. 2536 c.c., che disp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qualunque sia l'ammontare del fondo di riserva legale, deve essere a questa destinata almeno la quinta parte degli utili netti;</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una quota degli utili netti annuale deve essere corrisposta ai fondi mutualistici per la promozione e lo sviluppo della cooperazione nella misura e con le modalità previste dalla legge (attualmente tale misura è stata determinata nella misura del 3%);</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quota di utili che non è assegnata ai sensi dei commi precedenti, che non è utilizzata per la rivalutazione delle quote delle azioni o assegnata ad altre riserve o fondi o distribuita ai soci (nei limiti del tasso applicato ai buoni postali maggiorato di 2,5 punti sul capitale versato), deve essere destinata a fini mutualistic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IL DLGS. 220/2002</a:t>
            </a:r>
            <a:br>
              <a:rPr sz="4000"/>
            </a:br>
            <a:r>
              <a:rPr b="0" lang="it-IT" sz="3200" spc="-1" strike="noStrike">
                <a:solidFill>
                  <a:srgbClr val="333399"/>
                </a:solidFill>
                <a:latin typeface="Tahoma"/>
              </a:rPr>
              <a:t>RIORDINO DELLA VIGILANZA ENTI COOPERATIVI</a:t>
            </a:r>
            <a:endParaRPr b="0" lang="en-US" sz="32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ribuzione competenza al MINISTERO ATTIVITA’ PRODUT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antiene ferme le funzioni di vigilanza riservate alle Regioni a statuto speciale e alle province autonome di Trento e Bolzan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OGGETTO DELLA REVISIONE</a:t>
            </a:r>
            <a:br>
              <a:rPr sz="4000"/>
            </a:br>
            <a:endParaRPr b="0" lang="en-US" sz="4000" spc="-1" strike="noStrike">
              <a:solidFill>
                <a:srgbClr val="333399"/>
              </a:solidFill>
              <a:latin typeface="Tahoma"/>
            </a:endParaRPr>
          </a:p>
        </p:txBody>
      </p:sp>
      <p:sp>
        <p:nvSpPr>
          <p:cNvPr id="188"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re suggerimenti e consigli per migliorare gestione e livello democrazia intern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la natura mutualistica con verifica dell’effettività base sociale, della partecipazuione dei soci, dello scambio mutualistico</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qualità partecipazione, assenza scopo di lucro, legittimazione beneficio agevolazioni fiscali, previdenziali e altra natur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consistenza stato patrimoniale, con acquisizione bilancio ed allegat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 esistenza regolamento L. 142, correttezza e conformità rapporti instaur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RIFORMA SOCIETARIA</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1"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PRECEDENTE (ante 2004)</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Le imprese che hanno scopo mutualistico possono costituirsi come società cooperative a responsabilità illimitata o limitata, secondo le disposizioni seguenti.</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	</a:t>
            </a:r>
            <a:r>
              <a:rPr b="1" lang="it-IT" sz="2800" spc="-1" strike="noStrike">
                <a:solidFill>
                  <a:srgbClr val="333399"/>
                </a:solidFill>
                <a:latin typeface="Tahoma"/>
              </a:rPr>
              <a:t>ATTUALE (sino al 14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3" name="PlaceHolder 2"/>
          <p:cNvSpPr>
            <a:spLocks noGrp="1"/>
          </p:cNvSpPr>
          <p:nvPr>
            <p:ph/>
          </p:nvPr>
        </p:nvSpPr>
        <p:spPr>
          <a:xfrm>
            <a:off x="685440" y="2126880"/>
            <a:ext cx="73501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	</a:t>
            </a:r>
            <a:r>
              <a:rPr b="1" lang="it-IT" sz="2800" spc="-1" strike="noStrike">
                <a:solidFill>
                  <a:srgbClr val="333399"/>
                </a:solidFill>
                <a:latin typeface="Tahoma"/>
              </a:rPr>
              <a: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dal 15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 </a:t>
            </a:r>
            <a:r>
              <a:rPr b="0" lang="it-IT" sz="2800" spc="-1" strike="noStrike" u="sng">
                <a:solidFill>
                  <a:srgbClr val="ff0000"/>
                </a:solidFill>
                <a:uFillTx/>
                <a:latin typeface="Tahoma"/>
              </a:rPr>
              <a:t>iscritte presso l’albo delle società cooperative di cui all’articolo 2512, secondo comma, e all’articolo 223-sexiedecies delle disposizioni per l’attuazione del presente codice.</a:t>
            </a:r>
            <a:r>
              <a:rPr b="0" lang="it-IT" sz="2800" spc="-1" strike="noStrike">
                <a:solidFill>
                  <a:srgbClr val="ff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2</a:t>
            </a:r>
            <a:endParaRPr b="0" lang="en-US" sz="2600" spc="-1" strike="noStrike">
              <a:solidFill>
                <a:srgbClr val="000000"/>
              </a:solidFill>
              <a:latin typeface="Times New Roman"/>
            </a:endParaRPr>
          </a:p>
        </p:txBody>
      </p:sp>
      <p:sp>
        <p:nvSpPr>
          <p:cNvPr id="19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non prevalente</a:t>
            </a:r>
            <a:endParaRPr b="0" lang="en-US" sz="2000" spc="-1" strike="noStrike">
              <a:solidFill>
                <a:srgbClr val="000000"/>
              </a:solidFill>
              <a:latin typeface="Times New Roman"/>
            </a:endParaRPr>
          </a:p>
        </p:txBody>
      </p:sp>
      <p:sp>
        <p:nvSpPr>
          <p:cNvPr id="19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prevalente</a:t>
            </a:r>
            <a:endParaRPr b="0" lang="en-US" sz="2000" spc="-1" strike="noStrike">
              <a:solidFill>
                <a:srgbClr val="000000"/>
              </a:solidFill>
              <a:latin typeface="Times New Roman"/>
            </a:endParaRPr>
          </a:p>
        </p:txBody>
      </p:sp>
      <p:sp>
        <p:nvSpPr>
          <p:cNvPr id="198" name=""/>
          <p:cNvSpPr/>
          <p:nvPr/>
        </p:nvSpPr>
        <p:spPr>
          <a:xfrm>
            <a:off x="331920" y="3303720"/>
            <a:ext cx="393516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ttività prevalente ai soci</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 attività prevalente dei soci</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pporti prevalenti dei soci</a:t>
            </a:r>
            <a:endParaRPr b="0" lang="en-US" sz="2000" spc="-1" strike="noStrike">
              <a:solidFill>
                <a:srgbClr val="000000"/>
              </a:solidFill>
              <a:latin typeface="Times New Roman"/>
            </a:endParaRPr>
          </a:p>
        </p:txBody>
      </p:sp>
      <p:sp>
        <p:nvSpPr>
          <p:cNvPr id="199" name=""/>
          <p:cNvSpPr/>
          <p:nvPr/>
        </p:nvSpPr>
        <p:spPr>
          <a:xfrm flipH="1">
            <a:off x="228600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96000" y="3276720"/>
            <a:ext cx="3924000" cy="132408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5029200"/>
            <a:ext cx="3047760" cy="11653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scrizione albo nazion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x Registro prefettizio)</a:t>
            </a:r>
            <a:endParaRPr b="0" lang="en-US" sz="2000" spc="-1" strike="noStrike">
              <a:solidFill>
                <a:srgbClr val="000000"/>
              </a:solidFill>
              <a:latin typeface="Times New Roman"/>
            </a:endParaRPr>
          </a:p>
        </p:txBody>
      </p:sp>
      <p:sp>
        <p:nvSpPr>
          <p:cNvPr id="203" name=""/>
          <p:cNvSpPr/>
          <p:nvPr/>
        </p:nvSpPr>
        <p:spPr>
          <a:xfrm>
            <a:off x="831960" y="6046920"/>
            <a:ext cx="29401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posito bilanci annuale</a:t>
            </a:r>
            <a:endParaRPr b="0" lang="en-US" sz="2000" spc="-1" strike="noStrike">
              <a:solidFill>
                <a:srgbClr val="000000"/>
              </a:solidFill>
              <a:latin typeface="Times New Roman"/>
            </a:endParaRPr>
          </a:p>
        </p:txBody>
      </p:sp>
      <p:sp>
        <p:nvSpPr>
          <p:cNvPr id="204" name=""/>
          <p:cNvSpPr/>
          <p:nvPr/>
        </p:nvSpPr>
        <p:spPr>
          <a:xfrm flipH="1">
            <a:off x="2286000" y="4648320"/>
            <a:ext cx="144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271240" y="5710320"/>
            <a:ext cx="55800" cy="3366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400" spc="-1" strike="noStrike">
              <a:solidFill>
                <a:srgbClr val="333399"/>
              </a:solidFill>
              <a:latin typeface="Tahoma"/>
              <a:ea typeface="Times New Roman"/>
            </a:endParaRPr>
          </a:p>
        </p:txBody>
      </p:sp>
      <p:sp>
        <p:nvSpPr>
          <p:cNvPr id="108" name="PlaceHolder 2"/>
          <p:cNvSpPr>
            <a:spLocks noGrp="1"/>
          </p:cNvSpPr>
          <p:nvPr>
            <p:ph/>
          </p:nvPr>
        </p:nvSpPr>
        <p:spPr>
          <a:xfrm>
            <a:off x="380520" y="2214360"/>
            <a:ext cx="8386920" cy="3881160"/>
          </a:xfrm>
          <a:prstGeom prst="rect">
            <a:avLst/>
          </a:prstGeom>
          <a:noFill/>
          <a:ln w="0">
            <a:noFill/>
          </a:ln>
        </p:spPr>
        <p:txBody>
          <a:bodyPr lIns="90000" rIns="90000" tIns="46800" bIns="46800" anchor="t">
            <a:normAutofit fontScale="87000"/>
          </a:bodyPr>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400" spc="-1" strike="noStrike">
                <a:solidFill>
                  <a:srgbClr val="000000"/>
                </a:solidFill>
                <a:latin typeface="Tahoma"/>
                <a:ea typeface="Times New Roman"/>
              </a:rPr>
              <a:t>metà del XIX secolo , nel 1844 in Gran Bretagna &gt;&gt;Equitable Pioneers di Rochdale &gt;&gt;.</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le prime cooperative di consumo e  le  cooperative di produzione e lavoro,  gestite direttamente dai consumatori e dai lavoratori al fine di ottenere un risparmio di spesa e occasioni di lavoro attraverso l’ausilio di una attività economica gestita in modo democratico, solidaristico e non speculativo.</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1852 in Inghilterra si ebbero i primi testi di legge di carattere generale in materia di cooperativa, seguirono nel 1867 in Francia e in Germa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3</a:t>
            </a:r>
            <a:endParaRPr b="0" lang="en-US" sz="2600" spc="-1" strike="noStrike">
              <a:solidFill>
                <a:srgbClr val="333399"/>
              </a:solidFill>
              <a:latin typeface="Tahoma"/>
            </a:endParaRPr>
          </a:p>
        </p:txBody>
      </p:sp>
      <p:sp>
        <p:nvSpPr>
          <p:cNvPr id="209" name="PlaceHolder 2"/>
          <p:cNvSpPr>
            <a:spLocks noGrp="1"/>
          </p:cNvSpPr>
          <p:nvPr>
            <p:ph/>
          </p:nvPr>
        </p:nvSpPr>
        <p:spPr>
          <a:xfrm>
            <a:off x="762120" y="1343160"/>
            <a:ext cx="7549920" cy="5209920"/>
          </a:xfrm>
          <a:prstGeom prst="rect">
            <a:avLst/>
          </a:prstGeom>
          <a:noFill/>
          <a:ln w="0">
            <a:noFill/>
          </a:ln>
        </p:spPr>
        <p:txBody>
          <a:bodyPr lIns="90000" rIns="90000" tIns="46800" bIns="46800" anchor="t">
            <a:normAutofit fontScale="97000"/>
          </a:bodyPr>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avi vendite e prestazioni superiori 50% verso i soci (art. 2425, comma 1 punto A1)</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lavoro dei soci &gt; 50% costo totale (art. 2425, comma 1 punto B9)</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servizi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7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o merci e materie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6)</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ogni caso con più tipi media ponderata punti precedent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
          <p:cNvSpPr/>
          <p:nvPr/>
        </p:nvSpPr>
        <p:spPr>
          <a:xfrm>
            <a:off x="5486400" y="4038480"/>
            <a:ext cx="442800" cy="1567080"/>
          </a:xfrm>
          <a:custGeom>
            <a:avLst/>
            <a:gdLst>
              <a:gd name="textAreaLeft" fmla="*/ 0 w 442800"/>
              <a:gd name="textAreaRight" fmla="*/ 159840 w 442800"/>
              <a:gd name="textAreaTop" fmla="*/ 40680 h 1567080"/>
              <a:gd name="textAreaBottom" fmla="*/ 1526400 h 15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62120" y="762120"/>
            <a:ext cx="8192880" cy="537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AGRICO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ntità o valore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 prodott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dotti soc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
          <p:cNvSpPr/>
          <p:nvPr/>
        </p:nvSpPr>
        <p:spPr>
          <a:xfrm>
            <a:off x="3124080" y="3505320"/>
            <a:ext cx="228600" cy="988920"/>
          </a:xfrm>
          <a:custGeom>
            <a:avLst/>
            <a:gdLst>
              <a:gd name="textAreaLeft" fmla="*/ 0 w 228600"/>
              <a:gd name="textAreaRight" fmla="*/ 82440 w 228600"/>
              <a:gd name="textAreaTop" fmla="*/ 25560 h 988920"/>
              <a:gd name="textAreaBottom" fmla="*/ 963360 h 98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720360" y="1903320"/>
            <a:ext cx="7535880" cy="4229280"/>
          </a:xfrm>
          <a:prstGeom prst="rect">
            <a:avLst/>
          </a:prstGeom>
          <a:noFill/>
          <a:ln w="0">
            <a:noFill/>
          </a:ln>
        </p:spPr>
        <p:txBody>
          <a:bodyPr lIns="90000" rIns="90000" tIns="46800" bIns="46800" anchor="t">
            <a:normAutofit/>
          </a:bodyPr>
          <a:p>
            <a:pPr marL="62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ahoma"/>
              </a:rPr>
              <a:t>Art. 111-septies (sempre mutualità prevalente)</a:t>
            </a:r>
            <a:endParaRPr b="0" lang="en-US" sz="3600" spc="-1" strike="noStrike">
              <a:solidFill>
                <a:srgbClr val="000000"/>
              </a:solidFill>
              <a:latin typeface="Tahoma"/>
            </a:endParaRPr>
          </a:p>
          <a:p>
            <a:pPr marL="62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sociali L. 381/91</a:t>
            </a: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agricole attività 2135 c.c. rispetto condizioni comma 3 art. 2513</a:t>
            </a:r>
            <a:endParaRPr b="0" lang="en-US" sz="2800" spc="-1" strike="noStrike">
              <a:solidFill>
                <a:srgbClr val="000000"/>
              </a:solidFill>
              <a:latin typeface="Tahoma"/>
            </a:endParaRPr>
          </a:p>
          <a:p>
            <a:pPr marL="628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9</a:t>
            </a:r>
            <a:endParaRPr b="0" lang="en-US" sz="2600" spc="-1" strike="noStrike">
              <a:solidFill>
                <a:srgbClr val="000000"/>
              </a:solidFill>
              <a:latin typeface="Times New Roman"/>
            </a:endParaRPr>
          </a:p>
        </p:txBody>
      </p:sp>
      <p:sp>
        <p:nvSpPr>
          <p:cNvPr id="216"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4160" y="2286000"/>
            <a:ext cx="99072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A</a:t>
            </a:r>
            <a:endParaRPr b="0" lang="en-US" sz="2200" spc="-1" strike="noStrike">
              <a:solidFill>
                <a:srgbClr val="000000"/>
              </a:solidFill>
              <a:latin typeface="Times New Roman"/>
            </a:endParaRPr>
          </a:p>
        </p:txBody>
      </p:sp>
      <p:sp>
        <p:nvSpPr>
          <p:cNvPr id="218" name=""/>
          <p:cNvSpPr/>
          <p:nvPr/>
        </p:nvSpPr>
        <p:spPr>
          <a:xfrm>
            <a:off x="3379680" y="3246480"/>
            <a:ext cx="471168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eno 20 soc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ino a 1.000.000 € attivo patrimoniale</a:t>
            </a:r>
            <a:endParaRPr b="0" lang="en-US" sz="2000" spc="-1" strike="noStrike">
              <a:solidFill>
                <a:srgbClr val="000000"/>
              </a:solidFill>
              <a:latin typeface="Times New Roman"/>
            </a:endParaRPr>
          </a:p>
        </p:txBody>
      </p:sp>
      <p:sp>
        <p:nvSpPr>
          <p:cNvPr id="219" name=""/>
          <p:cNvSpPr/>
          <p:nvPr/>
        </p:nvSpPr>
        <p:spPr>
          <a:xfrm flipH="1">
            <a:off x="632304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9480" y="2286000"/>
            <a:ext cx="99036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RL</a:t>
            </a:r>
            <a:endParaRPr b="0" lang="en-US" sz="2200" spc="-1" strike="noStrike">
              <a:solidFill>
                <a:srgbClr val="000000"/>
              </a:solidFill>
              <a:latin typeface="Times New Roman"/>
            </a:endParaRPr>
          </a:p>
        </p:txBody>
      </p:sp>
      <p:sp>
        <p:nvSpPr>
          <p:cNvPr id="223" name=""/>
          <p:cNvSpPr/>
          <p:nvPr/>
        </p:nvSpPr>
        <p:spPr>
          <a:xfrm>
            <a:off x="1108080" y="5149800"/>
            <a:ext cx="7203960" cy="7016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o costitutivo fissa  regole attività mutualistica e possibilità con terzi</a:t>
            </a:r>
            <a:endParaRPr b="0" lang="en-US" sz="2000" spc="-1" strike="noStrike">
              <a:solidFill>
                <a:srgbClr val="000000"/>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22</a:t>
            </a:r>
            <a:endParaRPr b="0" lang="en-US" sz="2600" spc="-1" strike="noStrike">
              <a:solidFill>
                <a:srgbClr val="000000"/>
              </a:solidFill>
              <a:latin typeface="Times New Roman"/>
            </a:endParaRPr>
          </a:p>
        </p:txBody>
      </p:sp>
      <p:sp>
        <p:nvSpPr>
          <p:cNvPr id="22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 soci solo persone fisiche</a:t>
            </a:r>
            <a:endParaRPr b="0" lang="en-US" sz="2000" spc="-1" strike="noStrike">
              <a:solidFill>
                <a:srgbClr val="000000"/>
              </a:solidFill>
              <a:latin typeface="Times New Roman"/>
            </a:endParaRPr>
          </a:p>
        </p:txBody>
      </p:sp>
      <p:sp>
        <p:nvSpPr>
          <p:cNvPr id="22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9 soci</a:t>
            </a:r>
            <a:endParaRPr b="0" lang="en-US" sz="2000" spc="-1" strike="noStrike">
              <a:solidFill>
                <a:srgbClr val="000000"/>
              </a:solidFill>
              <a:latin typeface="Times New Roman"/>
            </a:endParaRPr>
          </a:p>
        </p:txBody>
      </p:sp>
      <p:sp>
        <p:nvSpPr>
          <p:cNvPr id="228" name=""/>
          <p:cNvSpPr/>
          <p:nvPr/>
        </p:nvSpPr>
        <p:spPr>
          <a:xfrm>
            <a:off x="6039000" y="3276720"/>
            <a:ext cx="160020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o SRL</a:t>
            </a:r>
            <a:endParaRPr b="0" lang="en-US" sz="2000" spc="-1" strike="noStrike">
              <a:solidFill>
                <a:srgbClr val="000000"/>
              </a:solidFill>
              <a:latin typeface="Times New Roman"/>
            </a:endParaRPr>
          </a:p>
        </p:txBody>
      </p:sp>
      <p:sp>
        <p:nvSpPr>
          <p:cNvPr id="229"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5400000">
            <a:off x="4343400" y="1052280"/>
            <a:ext cx="457200" cy="6276960"/>
          </a:xfrm>
          <a:custGeom>
            <a:avLst/>
            <a:gdLst>
              <a:gd name="textAreaLeft" fmla="*/ 0 w 457200"/>
              <a:gd name="textAreaRight" fmla="*/ 164880 w 457200"/>
              <a:gd name="textAreaTop" fmla="*/ 163440 h 6276960"/>
              <a:gd name="textAreaBottom" fmla="*/ 6113520 h 627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86080" y="4478400"/>
            <a:ext cx="6172200" cy="178164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iminuzione soci – entro un anno riscostituzion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pur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scioglie e deve esserci liquidazione</a:t>
            </a:r>
            <a:endParaRPr b="0" lang="en-US" sz="2200" spc="-1" strike="noStrike">
              <a:solidFill>
                <a:srgbClr val="000000"/>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33720" y="1219320"/>
            <a:ext cx="453996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NORME APPLICABIL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	</a:t>
            </a:r>
            <a:r>
              <a:rPr b="0" lang="it-IT" sz="2600" spc="-1" strike="noStrike">
                <a:solidFill>
                  <a:srgbClr val="3333cc"/>
                </a:solidFill>
                <a:latin typeface="Tahoma"/>
              </a:rPr>
              <a:t>(se compatibili) </a:t>
            </a:r>
            <a:endParaRPr b="0" lang="en-US" sz="2600" spc="-1" strike="noStrike">
              <a:solidFill>
                <a:srgbClr val="000000"/>
              </a:solidFill>
              <a:latin typeface="Times New Roman"/>
            </a:endParaRPr>
          </a:p>
        </p:txBody>
      </p:sp>
      <p:sp>
        <p:nvSpPr>
          <p:cNvPr id="235" name=""/>
          <p:cNvSpPr/>
          <p:nvPr/>
        </p:nvSpPr>
        <p:spPr>
          <a:xfrm>
            <a:off x="1066680" y="3124080"/>
            <a:ext cx="68580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A.          artt.  2325 - 2451</a:t>
            </a:r>
            <a:endParaRPr b="0" lang="en-US" sz="2400" spc="-1" strike="noStrike">
              <a:solidFill>
                <a:srgbClr val="000000"/>
              </a:solidFill>
              <a:latin typeface="Times New Roman"/>
            </a:endParaRPr>
          </a:p>
        </p:txBody>
      </p:sp>
      <p:sp>
        <p:nvSpPr>
          <p:cNvPr id="236" name=""/>
          <p:cNvSpPr/>
          <p:nvPr/>
        </p:nvSpPr>
        <p:spPr>
          <a:xfrm>
            <a:off x="34290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17880" y="4376880"/>
            <a:ext cx="458784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62320" y="3962520"/>
            <a:ext cx="44002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R.L.          artt.  2462 - 2483</a:t>
            </a:r>
            <a:endParaRPr b="0" lang="en-US" sz="2400" spc="-1" strike="noStrike">
              <a:solidFill>
                <a:srgbClr val="000000"/>
              </a:solidFill>
              <a:latin typeface="Times New Roman"/>
            </a:endParaRPr>
          </a:p>
        </p:txBody>
      </p:sp>
      <p:sp>
        <p:nvSpPr>
          <p:cNvPr id="239" name=""/>
          <p:cNvSpPr/>
          <p:nvPr/>
        </p:nvSpPr>
        <p:spPr>
          <a:xfrm>
            <a:off x="342900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00240" y="1143000"/>
            <a:ext cx="3143520" cy="883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MMINISTRAZIONE</a:t>
            </a:r>
            <a:endParaRPr b="0" lang="en-US" sz="2600" spc="-1" strike="noStrike">
              <a:solidFill>
                <a:srgbClr val="000000"/>
              </a:solidFill>
              <a:latin typeface="Times New Roman"/>
            </a:endParaRPr>
          </a:p>
        </p:txBody>
      </p:sp>
      <p:sp>
        <p:nvSpPr>
          <p:cNvPr id="241"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552760" y="2205000"/>
            <a:ext cx="4228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mina all’assemble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atto costitutivo o Stato o enti)</a:t>
            </a:r>
            <a:endParaRPr b="0" lang="en-US" sz="2000" spc="-1" strike="noStrike">
              <a:solidFill>
                <a:srgbClr val="000000"/>
              </a:solidFill>
              <a:latin typeface="Times New Roman"/>
            </a:endParaRPr>
          </a:p>
        </p:txBody>
      </p:sp>
      <p:sp>
        <p:nvSpPr>
          <p:cNvPr id="243" name=""/>
          <p:cNvSpPr/>
          <p:nvPr/>
        </p:nvSpPr>
        <p:spPr>
          <a:xfrm>
            <a:off x="1257480" y="3265560"/>
            <a:ext cx="66294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aggioranza tra soci cooperator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indicate da persone giuridiche cooperatori)</a:t>
            </a:r>
            <a:endParaRPr b="0" lang="en-US" sz="2000" spc="-1" strike="noStrike">
              <a:solidFill>
                <a:srgbClr val="000000"/>
              </a:solidFill>
              <a:latin typeface="Times New Roman"/>
            </a:endParaRPr>
          </a:p>
        </p:txBody>
      </p:sp>
      <p:sp>
        <p:nvSpPr>
          <p:cNvPr id="244" name=""/>
          <p:cNvSpPr/>
          <p:nvPr/>
        </p:nvSpPr>
        <p:spPr>
          <a:xfrm flipH="1">
            <a:off x="4570560" y="2994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1143000"/>
            <a:ext cx="30477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40" y="4648320"/>
            <a:ext cx="8629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ossibile scelta categorie soc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essori strumenti finanziari 1/3)</a:t>
            </a:r>
            <a:endParaRPr b="0" lang="en-US" sz="2000" spc="-1" strike="noStrike">
              <a:solidFill>
                <a:srgbClr val="000000"/>
              </a:solidFill>
              <a:latin typeface="Times New Roman"/>
            </a:endParaRPr>
          </a:p>
        </p:txBody>
      </p:sp>
      <p:sp>
        <p:nvSpPr>
          <p:cNvPr id="247" name=""/>
          <p:cNvSpPr/>
          <p:nvPr/>
        </p:nvSpPr>
        <p:spPr>
          <a:xfrm flipH="1">
            <a:off x="4572000" y="41148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85920" y="1143000"/>
            <a:ext cx="47721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ISTEMI AMMINISTRAZIONE </a:t>
            </a:r>
            <a:endParaRPr b="0" lang="en-US" sz="2600" spc="-1" strike="noStrike">
              <a:solidFill>
                <a:srgbClr val="000000"/>
              </a:solidFill>
              <a:latin typeface="Times New Roman"/>
            </a:endParaRPr>
          </a:p>
        </p:txBody>
      </p:sp>
      <p:sp>
        <p:nvSpPr>
          <p:cNvPr id="249"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57360" y="2209680"/>
            <a:ext cx="42292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facoltà adozione sistemi nuovi</a:t>
            </a:r>
            <a:endParaRPr b="0" lang="en-US" sz="2200" spc="-1" strike="noStrike">
              <a:solidFill>
                <a:srgbClr val="000000"/>
              </a:solidFill>
              <a:latin typeface="Times New Roman"/>
            </a:endParaRPr>
          </a:p>
        </p:txBody>
      </p:sp>
      <p:sp>
        <p:nvSpPr>
          <p:cNvPr id="251" name=""/>
          <p:cNvSpPr/>
          <p:nvPr/>
        </p:nvSpPr>
        <p:spPr>
          <a:xfrm>
            <a:off x="1257480" y="3265560"/>
            <a:ext cx="6629400" cy="27165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deleg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s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recesso</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esclu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decisioni su rapporti mutualistici</a:t>
            </a:r>
            <a:endParaRPr b="0" lang="en-US" sz="2200" spc="-1" strike="noStrike">
              <a:solidFill>
                <a:srgbClr val="000000"/>
              </a:solidFill>
              <a:latin typeface="Times New Roman"/>
            </a:endParaRPr>
          </a:p>
        </p:txBody>
      </p:sp>
      <p:sp>
        <p:nvSpPr>
          <p:cNvPr id="252" name=""/>
          <p:cNvSpPr/>
          <p:nvPr/>
        </p:nvSpPr>
        <p:spPr>
          <a:xfrm flipH="1">
            <a:off x="4570560" y="27432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2320" y="1143000"/>
            <a:ext cx="44193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505320" y="1008000"/>
            <a:ext cx="20923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R L</a:t>
            </a:r>
            <a:endParaRPr b="0" lang="en-US" sz="2600" spc="-1" strike="noStrike">
              <a:solidFill>
                <a:srgbClr val="000000"/>
              </a:solidFill>
              <a:latin typeface="Times New Roman"/>
            </a:endParaRPr>
          </a:p>
        </p:txBody>
      </p:sp>
      <p:sp>
        <p:nvSpPr>
          <p:cNvPr id="255" name=""/>
          <p:cNvSpPr/>
          <p:nvPr/>
        </p:nvSpPr>
        <p:spPr>
          <a:xfrm flipH="1">
            <a:off x="7481880" y="335916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27800" y="2855880"/>
            <a:ext cx="19400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collegiale</a:t>
            </a:r>
            <a:endParaRPr b="0" lang="en-US" sz="2200" spc="-1" strike="noStrike">
              <a:solidFill>
                <a:srgbClr val="000000"/>
              </a:solidFill>
              <a:latin typeface="Times New Roman"/>
            </a:endParaRPr>
          </a:p>
        </p:txBody>
      </p:sp>
      <p:sp>
        <p:nvSpPr>
          <p:cNvPr id="257"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17360" y="2511360"/>
            <a:ext cx="30956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38680" y="2887560"/>
            <a:ext cx="16142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ale</a:t>
            </a:r>
            <a:endParaRPr b="0" lang="en-US" sz="2200" spc="-1" strike="noStrike">
              <a:solidFill>
                <a:srgbClr val="000000"/>
              </a:solidFill>
              <a:latin typeface="Times New Roman"/>
            </a:endParaRPr>
          </a:p>
        </p:txBody>
      </p:sp>
      <p:sp>
        <p:nvSpPr>
          <p:cNvPr id="262" name=""/>
          <p:cNvSpPr/>
          <p:nvPr/>
        </p:nvSpPr>
        <p:spPr>
          <a:xfrm>
            <a:off x="7481880" y="2519280"/>
            <a:ext cx="0" cy="279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6160" y="2127240"/>
            <a:ext cx="250056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a:t>
            </a:r>
            <a:endParaRPr b="0" lang="en-US" sz="2200" spc="-1" strike="noStrike">
              <a:solidFill>
                <a:srgbClr val="000000"/>
              </a:solidFill>
              <a:latin typeface="Times New Roman"/>
            </a:endParaRPr>
          </a:p>
        </p:txBody>
      </p:sp>
      <p:sp>
        <p:nvSpPr>
          <p:cNvPr id="264" name=""/>
          <p:cNvSpPr/>
          <p:nvPr/>
        </p:nvSpPr>
        <p:spPr>
          <a:xfrm>
            <a:off x="4211640" y="2127240"/>
            <a:ext cx="338148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inistrazione</a:t>
            </a:r>
            <a:endParaRPr b="0" lang="en-US" sz="2200" spc="-1" strike="noStrike">
              <a:solidFill>
                <a:srgbClr val="000000"/>
              </a:solidFill>
              <a:latin typeface="Times New Roman"/>
            </a:endParaRPr>
          </a:p>
        </p:txBody>
      </p:sp>
      <p:sp>
        <p:nvSpPr>
          <p:cNvPr id="265" name=""/>
          <p:cNvSpPr/>
          <p:nvPr/>
        </p:nvSpPr>
        <p:spPr>
          <a:xfrm>
            <a:off x="4627440" y="25336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75160" y="3695760"/>
            <a:ext cx="2827440" cy="17391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con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dis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mista</a:t>
            </a:r>
            <a:endParaRPr b="0" lang="en-US" sz="2200" spc="-1" strike="noStrike">
              <a:solidFill>
                <a:srgbClr val="000000"/>
              </a:solidFill>
              <a:latin typeface="Times New Roman"/>
            </a:endParaRPr>
          </a:p>
        </p:txBody>
      </p:sp>
      <p:sp>
        <p:nvSpPr>
          <p:cNvPr id="267" name=""/>
          <p:cNvSpPr/>
          <p:nvPr/>
        </p:nvSpPr>
        <p:spPr>
          <a:xfrm>
            <a:off x="2604960" y="3359160"/>
            <a:ext cx="2629080" cy="2382120"/>
          </a:xfrm>
          <a:prstGeom prst="rect">
            <a:avLst/>
          </a:prstGeom>
          <a:noFill/>
          <a:ln w="0">
            <a:noFill/>
          </a:ln>
        </p:spPr>
        <p:style>
          <a:lnRef idx="0"/>
          <a:fillRef idx="0"/>
          <a:effectRef idx="0"/>
          <a:fontRef idx="minor"/>
        </p:style>
        <p:txBody>
          <a:bodyPr anchor="t">
            <a:spAutoFit/>
          </a:bodyPr>
          <a:p>
            <a:pPr algn="just">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bilancio</a:t>
            </a:r>
            <a:endParaRPr b="0" lang="en-US" sz="2200" spc="-1" strike="noStrike">
              <a:solidFill>
                <a:srgbClr val="000000"/>
              </a:solidFill>
              <a:latin typeface="Times New Roman"/>
            </a:endParaRPr>
          </a:p>
          <a:p>
            <a:pPr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fusione</a:t>
            </a:r>
            <a:endParaRPr b="0" lang="en-US" sz="2200" spc="-1" strike="noStrike">
              <a:solidFill>
                <a:srgbClr val="000000"/>
              </a:solidFill>
              <a:latin typeface="Times New Roman"/>
            </a:endParaRPr>
          </a:p>
          <a:p>
            <a:pPr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cissione</a:t>
            </a:r>
            <a:endParaRPr b="0" lang="en-US" sz="2200" spc="-1" strike="noStrike">
              <a:solidFill>
                <a:srgbClr val="000000"/>
              </a:solidFill>
              <a:latin typeface="Times New Roman"/>
            </a:endParaRPr>
          </a:p>
          <a:p>
            <a:pPr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umento capital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200" spc="-1" strike="noStrike">
                <a:solidFill>
                  <a:srgbClr val="000000"/>
                </a:solidFill>
                <a:latin typeface="Tahoma"/>
              </a:rPr>
              <a:t> </a:t>
            </a:r>
            <a:r>
              <a:rPr b="0" lang="it-IT" sz="2200" spc="-1" strike="noStrike">
                <a:solidFill>
                  <a:srgbClr val="000000"/>
                </a:solidFill>
                <a:latin typeface="Tahoma"/>
              </a:rPr>
              <a:t>solo collegiali</a:t>
            </a:r>
            <a:endParaRPr b="0" lang="en-US" sz="2200" spc="-1" strike="noStrike">
              <a:solidFill>
                <a:srgbClr val="000000"/>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05320" y="1108080"/>
            <a:ext cx="21333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269"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54440" y="2147760"/>
            <a:ext cx="16146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onistico</a:t>
            </a:r>
            <a:endParaRPr b="0" lang="en-US" sz="2200" spc="-1" strike="noStrike">
              <a:solidFill>
                <a:srgbClr val="000000"/>
              </a:solidFill>
              <a:latin typeface="Times New Roman"/>
            </a:endParaRPr>
          </a:p>
        </p:txBody>
      </p:sp>
      <p:sp>
        <p:nvSpPr>
          <p:cNvPr id="273" name=""/>
          <p:cNvSpPr/>
          <p:nvPr/>
        </p:nvSpPr>
        <p:spPr>
          <a:xfrm>
            <a:off x="1600200" y="2666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adizionale</a:t>
            </a:r>
            <a:endParaRPr b="0" lang="en-US" sz="2200" spc="-1" strike="noStrike">
              <a:solidFill>
                <a:srgbClr val="000000"/>
              </a:solidFill>
              <a:latin typeface="Times New Roman"/>
            </a:endParaRPr>
          </a:p>
        </p:txBody>
      </p:sp>
      <p:sp>
        <p:nvSpPr>
          <p:cNvPr id="275" name=""/>
          <p:cNvSpPr/>
          <p:nvPr/>
        </p:nvSpPr>
        <p:spPr>
          <a:xfrm>
            <a:off x="590544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ualistico</a:t>
            </a:r>
            <a:endParaRPr b="0" lang="en-US" sz="2200" spc="-1" strike="noStrike">
              <a:solidFill>
                <a:srgbClr val="000000"/>
              </a:solidFill>
              <a:latin typeface="Times New Roman"/>
            </a:endParaRPr>
          </a:p>
        </p:txBody>
      </p:sp>
      <p:sp>
        <p:nvSpPr>
          <p:cNvPr id="276" name=""/>
          <p:cNvSpPr/>
          <p:nvPr/>
        </p:nvSpPr>
        <p:spPr>
          <a:xfrm>
            <a:off x="4572000" y="17715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3022560"/>
            <a:ext cx="305460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sorveglianza</a:t>
            </a:r>
            <a:endParaRPr b="0" lang="en-US" sz="2200" spc="-1" strike="noStrike">
              <a:solidFill>
                <a:srgbClr val="000000"/>
              </a:solidFill>
              <a:latin typeface="Times New Roman"/>
            </a:endParaRPr>
          </a:p>
        </p:txBody>
      </p:sp>
      <p:sp>
        <p:nvSpPr>
          <p:cNvPr id="278" name=""/>
          <p:cNvSpPr/>
          <p:nvPr/>
        </p:nvSpPr>
        <p:spPr>
          <a:xfrm>
            <a:off x="3263760" y="3048120"/>
            <a:ext cx="26146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 (spetta la gestione)</a:t>
            </a:r>
            <a:endParaRPr b="0" lang="en-US" sz="2200" spc="-1" strike="noStrike">
              <a:solidFill>
                <a:srgbClr val="000000"/>
              </a:solidFill>
              <a:latin typeface="Times New Roman"/>
            </a:endParaRPr>
          </a:p>
        </p:txBody>
      </p:sp>
      <p:sp>
        <p:nvSpPr>
          <p:cNvPr id="279" name=""/>
          <p:cNvSpPr/>
          <p:nvPr/>
        </p:nvSpPr>
        <p:spPr>
          <a:xfrm>
            <a:off x="554040" y="3022560"/>
            <a:ext cx="2532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 o cons. amm.</a:t>
            </a:r>
            <a:endParaRPr b="0" lang="en-US" sz="2200" spc="-1" strike="noStrike">
              <a:solidFill>
                <a:srgbClr val="000000"/>
              </a:solidFill>
              <a:latin typeface="Times New Roman"/>
            </a:endParaRPr>
          </a:p>
        </p:txBody>
      </p:sp>
      <p:sp>
        <p:nvSpPr>
          <p:cNvPr id="280" name=""/>
          <p:cNvSpPr/>
          <p:nvPr/>
        </p:nvSpPr>
        <p:spPr>
          <a:xfrm>
            <a:off x="75438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720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92320" y="5262480"/>
            <a:ext cx="31244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meno un componente iscritto reg. rev. cont.</a:t>
            </a:r>
            <a:endParaRPr b="0" lang="en-US" sz="2200" spc="-1" strike="noStrike">
              <a:solidFill>
                <a:srgbClr val="000000"/>
              </a:solidFill>
              <a:latin typeface="Times New Roman"/>
            </a:endParaRPr>
          </a:p>
        </p:txBody>
      </p:sp>
      <p:sp>
        <p:nvSpPr>
          <p:cNvPr id="283" name=""/>
          <p:cNvSpPr/>
          <p:nvPr/>
        </p:nvSpPr>
        <p:spPr>
          <a:xfrm>
            <a:off x="6172200" y="4086360"/>
            <a:ext cx="252900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gesti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etta la gestione)</a:t>
            </a:r>
            <a:endParaRPr b="0" lang="en-US" sz="2200" spc="-1" strike="noStrike">
              <a:solidFill>
                <a:srgbClr val="000000"/>
              </a:solidFill>
              <a:latin typeface="Times New Roman"/>
            </a:endParaRPr>
          </a:p>
        </p:txBody>
      </p:sp>
      <p:sp>
        <p:nvSpPr>
          <p:cNvPr id="284" name=""/>
          <p:cNvSpPr/>
          <p:nvPr/>
        </p:nvSpPr>
        <p:spPr>
          <a:xfrm>
            <a:off x="3241800" y="4359240"/>
            <a:ext cx="26668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interno comitato controllo gestione</a:t>
            </a:r>
            <a:endParaRPr b="0" lang="en-US" sz="2200" spc="-1" strike="noStrike">
              <a:solidFill>
                <a:srgbClr val="000000"/>
              </a:solidFill>
              <a:latin typeface="Times New Roman"/>
            </a:endParaRPr>
          </a:p>
        </p:txBody>
      </p:sp>
      <p:sp>
        <p:nvSpPr>
          <p:cNvPr id="285" name=""/>
          <p:cNvSpPr/>
          <p:nvPr/>
        </p:nvSpPr>
        <p:spPr>
          <a:xfrm>
            <a:off x="7537320" y="3751200"/>
            <a:ext cx="0" cy="3920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72000" y="39052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45000" y="5038560"/>
            <a:ext cx="0" cy="335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type="subTitle"/>
          </p:nvPr>
        </p:nvSpPr>
        <p:spPr>
          <a:xfrm>
            <a:off x="1142640" y="3504960"/>
            <a:ext cx="7467480" cy="28191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L’evoluzione </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della legislazione italiana</a:t>
            </a:r>
            <a:r>
              <a:rPr b="1" lang="it-IT" sz="5000" spc="-1" strike="noStrike">
                <a:solidFill>
                  <a:srgbClr val="000000"/>
                </a:solidFill>
                <a:latin typeface="Tahoma"/>
              </a:rPr>
              <a:t> </a:t>
            </a: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00240" y="533520"/>
            <a:ext cx="314352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CONTROLL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43</a:t>
            </a:r>
            <a:endParaRPr b="0" lang="en-US" sz="2600" spc="-1" strike="noStrike">
              <a:solidFill>
                <a:srgbClr val="000000"/>
              </a:solidFill>
              <a:latin typeface="Times New Roman"/>
            </a:endParaRPr>
          </a:p>
        </p:txBody>
      </p:sp>
      <p:sp>
        <p:nvSpPr>
          <p:cNvPr id="289" name=""/>
          <p:cNvSpPr/>
          <p:nvPr/>
        </p:nvSpPr>
        <p:spPr>
          <a:xfrm flipH="1">
            <a:off x="4572000" y="1905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42960" y="2286000"/>
            <a:ext cx="6058080" cy="1036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igenza norme art. 2477 (s.r.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emissione strumenti finanziari non partecipativi)</a:t>
            </a:r>
            <a:endParaRPr b="0" lang="en-US" sz="2000" spc="-1" strike="noStrike">
              <a:solidFill>
                <a:srgbClr val="000000"/>
              </a:solidFill>
              <a:latin typeface="Times New Roman"/>
            </a:endParaRPr>
          </a:p>
        </p:txBody>
      </p:sp>
      <p:sp>
        <p:nvSpPr>
          <p:cNvPr id="291" name=""/>
          <p:cNvSpPr/>
          <p:nvPr/>
        </p:nvSpPr>
        <p:spPr>
          <a:xfrm>
            <a:off x="895320" y="3429000"/>
            <a:ext cx="735336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visione atto costitutivo voto proporzionale alle quo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 azioni possedute o proporzione scambio mutualistico</a:t>
            </a:r>
            <a:endParaRPr b="0" lang="en-US" sz="2200" spc="-1" strike="noStrike">
              <a:solidFill>
                <a:srgbClr val="000000"/>
              </a:solidFill>
              <a:latin typeface="Times New Roman"/>
            </a:endParaRPr>
          </a:p>
        </p:txBody>
      </p:sp>
      <p:sp>
        <p:nvSpPr>
          <p:cNvPr id="292" name=""/>
          <p:cNvSpPr/>
          <p:nvPr/>
        </p:nvSpPr>
        <p:spPr>
          <a:xfrm flipH="1">
            <a:off x="4572000" y="3048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7040" y="4419720"/>
            <a:ext cx="86299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e effettivi e due supplenti</a:t>
            </a:r>
            <a:endParaRPr b="0" lang="en-US" sz="2200" spc="-1" strike="noStrike">
              <a:solidFill>
                <a:srgbClr val="000000"/>
              </a:solidFill>
              <a:latin typeface="Times New Roman"/>
            </a:endParaRPr>
          </a:p>
        </p:txBody>
      </p:sp>
      <p:sp>
        <p:nvSpPr>
          <p:cNvPr id="294" name=""/>
          <p:cNvSpPr/>
          <p:nvPr/>
        </p:nvSpPr>
        <p:spPr>
          <a:xfrm flipH="1">
            <a:off x="4572000" y="4191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95480" y="533520"/>
            <a:ext cx="358164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95480" y="4876920"/>
            <a:ext cx="33530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49480" y="5257800"/>
            <a:ext cx="351000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un effettivo reg. rev. co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 un supplente</a:t>
            </a:r>
            <a:endParaRPr b="0" lang="en-US" sz="2200" spc="-1" strike="noStrike">
              <a:solidFill>
                <a:srgbClr val="000000"/>
              </a:solidFill>
              <a:latin typeface="Times New Roman"/>
            </a:endParaRPr>
          </a:p>
        </p:txBody>
      </p:sp>
      <p:sp>
        <p:nvSpPr>
          <p:cNvPr id="298" name=""/>
          <p:cNvSpPr/>
          <p:nvPr/>
        </p:nvSpPr>
        <p:spPr>
          <a:xfrm>
            <a:off x="4849920" y="5334120"/>
            <a:ext cx="26636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tri albi o prof. univ. economico giuridiche</a:t>
            </a:r>
            <a:endParaRPr b="0" lang="en-US" sz="2200" spc="-1" strike="noStrike">
              <a:solidFill>
                <a:srgbClr val="000000"/>
              </a:solidFill>
              <a:latin typeface="Times New Roman"/>
            </a:endParaRPr>
          </a:p>
        </p:txBody>
      </p:sp>
      <p:sp>
        <p:nvSpPr>
          <p:cNvPr id="299" name=""/>
          <p:cNvSpPr/>
          <p:nvPr/>
        </p:nvSpPr>
        <p:spPr>
          <a:xfrm>
            <a:off x="289548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7220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82760" y="952560"/>
            <a:ext cx="6541920" cy="79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333399"/>
                </a:solidFill>
                <a:latin typeface="Tahoma"/>
              </a:rPr>
              <a:t>ART. 2477 (S.R.L.) (</a:t>
            </a:r>
            <a:r>
              <a:rPr b="1" lang="it-IT" sz="2000" spc="-1" strike="noStrike">
                <a:solidFill>
                  <a:srgbClr val="333399"/>
                </a:solidFill>
                <a:latin typeface="Tahoma"/>
              </a:rPr>
              <a:t>dal 7 aprile 2010 ex d.lgs. 39/2010)</a:t>
            </a:r>
            <a:endParaRPr b="0" lang="en-US" sz="2000" spc="-1" strike="noStrike">
              <a:solidFill>
                <a:srgbClr val="333399"/>
              </a:solidFill>
              <a:latin typeface="Tahoma"/>
            </a:endParaRPr>
          </a:p>
        </p:txBody>
      </p:sp>
      <p:sp>
        <p:nvSpPr>
          <p:cNvPr id="302" name="PlaceHolder 2"/>
          <p:cNvSpPr>
            <a:spLocks noGrp="1"/>
          </p:cNvSpPr>
          <p:nvPr>
            <p:ph/>
          </p:nvPr>
        </p:nvSpPr>
        <p:spPr>
          <a:xfrm>
            <a:off x="996480" y="1828800"/>
            <a:ext cx="6983640" cy="4665600"/>
          </a:xfrm>
          <a:prstGeom prst="rect">
            <a:avLst/>
          </a:prstGeom>
          <a:noFill/>
          <a:ln w="0">
            <a:noFill/>
          </a:ln>
        </p:spPr>
        <p:txBody>
          <a:bodyPr lIns="90000" rIns="90000" tIns="46800" bIns="46800" anchor="t">
            <a:normAutofit/>
          </a:bodyPr>
          <a:p>
            <a:pPr marL="358920" indent="0" algn="ctr">
              <a:lnSpc>
                <a:spcPct val="8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ahoma"/>
            </a:endParaRPr>
          </a:p>
          <a:p>
            <a:pPr marL="358920" indent="0" algn="ctr">
              <a:lnSpc>
                <a:spcPct val="8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400" spc="-1" strike="noStrike">
                <a:solidFill>
                  <a:srgbClr val="000000"/>
                </a:solidFill>
                <a:latin typeface="Tahoma"/>
              </a:rPr>
              <a:t>      </a:t>
            </a:r>
            <a:r>
              <a:rPr b="1" lang="it-IT" sz="1800" spc="-1" strike="noStrike" u="sng">
                <a:solidFill>
                  <a:srgbClr val="000000"/>
                </a:solidFill>
                <a:uFillTx/>
                <a:latin typeface="Tahoma"/>
              </a:rPr>
              <a:t>facoltà</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Previsione di statuto nomina collegio o revisore</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 </a:t>
            </a:r>
            <a:r>
              <a:rPr b="1" lang="it-IT" sz="1800" spc="-1" strike="noStrike" u="sng">
                <a:solidFill>
                  <a:srgbClr val="000000"/>
                </a:solidFill>
                <a:uFillTx/>
                <a:latin typeface="Tahoma"/>
              </a:rPr>
              <a:t>obblig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Capitale sociale pari o superiore a 120.000 euro</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vve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bbligo bilancio consolidat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Controlla società obbligata a revisione legale</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Per due esercizi consecutivi superati due parametri</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2435 bis – bilancio abbreviat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50 dipendenti occupati in media </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Attivo stato patrimoniale 4.400.000 eur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Ricavi vendite e prestazioni 8.800.000 eu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Tahoma"/>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492360" y="1125360"/>
            <a:ext cx="21337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304" name=""/>
          <p:cNvSpPr/>
          <p:nvPr/>
        </p:nvSpPr>
        <p:spPr>
          <a:xfrm>
            <a:off x="6761160" y="2852640"/>
            <a:ext cx="18763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6160" y="2127240"/>
            <a:ext cx="29988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o sindacale</a:t>
            </a:r>
            <a:endParaRPr b="0" lang="en-US" sz="2200" spc="-1" strike="noStrike">
              <a:solidFill>
                <a:srgbClr val="000000"/>
              </a:solidFill>
              <a:latin typeface="Times New Roman"/>
            </a:endParaRPr>
          </a:p>
        </p:txBody>
      </p:sp>
      <p:sp>
        <p:nvSpPr>
          <p:cNvPr id="309" name=""/>
          <p:cNvSpPr/>
          <p:nvPr/>
        </p:nvSpPr>
        <p:spPr>
          <a:xfrm>
            <a:off x="4284720" y="2133720"/>
            <a:ext cx="38764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visione legale conti</a:t>
            </a:r>
            <a:endParaRPr b="0" lang="en-US" sz="2200" spc="-1" strike="noStrike">
              <a:solidFill>
                <a:srgbClr val="000000"/>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11" name=""/>
          <p:cNvSpPr/>
          <p:nvPr/>
        </p:nvSpPr>
        <p:spPr>
          <a:xfrm>
            <a:off x="776160" y="2057400"/>
            <a:ext cx="7037640" cy="19094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per due esercizi consecutivi mancanza parametri art. 2513</a:t>
            </a:r>
            <a:endParaRPr b="0" lang="en-US" sz="2000" spc="-1" strike="noStrike">
              <a:solidFill>
                <a:srgbClr val="000000"/>
              </a:solidFill>
              <a:latin typeface="Times New Roman"/>
            </a:endParaRPr>
          </a:p>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eliminazione requisiti mutualistici (art. 2514) dello statuto</a:t>
            </a:r>
            <a:endParaRPr b="0" lang="en-US" sz="2000" spc="-1" strike="noStrike">
              <a:solidFill>
                <a:srgbClr val="000000"/>
              </a:solidFill>
              <a:latin typeface="Times New Roman"/>
            </a:endParaRPr>
          </a:p>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mp;&amp;&amp;&amp;&amp;&amp;&amp;&amp;&amp;&amp;&amp;&amp;&amp;</a:t>
            </a:r>
            <a:endParaRPr b="0" lang="en-US" sz="2000" spc="-1" strike="noStrike">
              <a:solidFill>
                <a:srgbClr val="000000"/>
              </a:solidFill>
              <a:latin typeface="Times New Roman"/>
            </a:endParaRPr>
          </a:p>
        </p:txBody>
      </p:sp>
      <p:sp>
        <p:nvSpPr>
          <p:cNvPr id="312" name=""/>
          <p:cNvSpPr/>
          <p:nvPr/>
        </p:nvSpPr>
        <p:spPr>
          <a:xfrm>
            <a:off x="887400" y="3359160"/>
            <a:ext cx="6870600" cy="205560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sentito il revisore esterno, se esistente, redigono apposito bilancio (straordinario) per determinare il valore effettivo dell’attivo patrimoniale da imputare alle riserve indivisibili.</a:t>
            </a:r>
            <a:endParaRPr b="0" lang="en-US" sz="2000" spc="-1" strike="noStrike">
              <a:solidFill>
                <a:srgbClr val="000000"/>
              </a:solidFill>
              <a:latin typeface="Times New Roman"/>
            </a:endParaRPr>
          </a:p>
          <a:p>
            <a:pPr marL="417600" indent="-417600"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Il bilancio deve essere verificato senza rilievi da società revisione</a:t>
            </a:r>
            <a:endParaRPr b="0" lang="en-US" sz="2000" spc="-1" strike="noStrike">
              <a:solidFill>
                <a:srgbClr val="000000"/>
              </a:solidFill>
              <a:latin typeface="Times New Roman"/>
            </a:endParaRPr>
          </a:p>
        </p:txBody>
      </p:sp>
      <p:sp>
        <p:nvSpPr>
          <p:cNvPr id="313" name=""/>
          <p:cNvSpPr/>
          <p:nvPr/>
        </p:nvSpPr>
        <p:spPr>
          <a:xfrm>
            <a:off x="665280" y="5430960"/>
            <a:ext cx="7370640" cy="114084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notificano al Ministero attività produttive il superiore bilancio entro 60 giorni dall’approvazione</a:t>
            </a: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6840" y="106668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 (dal 15 agosto 2009)</a:t>
            </a:r>
            <a:endParaRPr b="0" lang="en-US" sz="2000" spc="-1" strike="noStrike">
              <a:solidFill>
                <a:srgbClr val="000000"/>
              </a:solidFill>
              <a:latin typeface="Times New Roman"/>
            </a:endParaRPr>
          </a:p>
        </p:txBody>
      </p:sp>
      <p:sp>
        <p:nvSpPr>
          <p:cNvPr id="315" name=""/>
          <p:cNvSpPr/>
          <p:nvPr/>
        </p:nvSpPr>
        <p:spPr>
          <a:xfrm>
            <a:off x="776160" y="1981080"/>
            <a:ext cx="7682040" cy="45201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la fine vengono aggiunti 3 commi che sanciscono:</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bolizione della redazione del bilancio straordinario per la perdita della mutualità per non rispetto dei paramet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 permanenza dell’obbligo del bilancio straordinario solo nel caso in cui si modifichino le clausole statutarie oppure si emettano strumenti finanzia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obbligo di comunicazione delle variazioni con strumenti informatici all’albo nazional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 seguito delle comunicazioni viene variata la sezione di appartenenza senza ulteriore istruzion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omessa o ritardata comunicazione viene segnalata all’A.F.  e si applica la sanzione della sospensione semestrale </a:t>
            </a:r>
            <a:endParaRPr b="0" lang="en-US" sz="2000" spc="-1" strike="noStrike">
              <a:solidFill>
                <a:srgbClr val="000000"/>
              </a:solidFill>
              <a:latin typeface="Times New Roman"/>
            </a:endParaRPr>
          </a:p>
        </p:txBody>
      </p:sp>
      <p:sp>
        <p:nvSpPr>
          <p:cNvPr id="316"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41400" y="1455840"/>
            <a:ext cx="598644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decies</a:t>
            </a:r>
            <a:endParaRPr b="0" lang="en-US" sz="2000" spc="-1" strike="noStrike">
              <a:solidFill>
                <a:srgbClr val="000000"/>
              </a:solidFill>
              <a:latin typeface="Times New Roman"/>
            </a:endParaRPr>
          </a:p>
        </p:txBody>
      </p:sp>
      <p:sp>
        <p:nvSpPr>
          <p:cNvPr id="318" name=""/>
          <p:cNvSpPr/>
          <p:nvPr/>
        </p:nvSpPr>
        <p:spPr>
          <a:xfrm>
            <a:off x="996840" y="2406600"/>
            <a:ext cx="6872400" cy="13471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Società diverse da quelle MP possono deliberare la trasformazione in società lucrative, con il voto di almeno la metà dei so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96840" y="1231920"/>
            <a:ext cx="709452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undecies</a:t>
            </a:r>
            <a:r>
              <a:rPr b="1" lang="it-IT" sz="2000" spc="-1" strike="noStrike">
                <a:solidFill>
                  <a:srgbClr val="3333cc"/>
                </a:solidFill>
                <a:latin typeface="Tahoma"/>
              </a:rPr>
              <a:t>	</a:t>
            </a:r>
            <a:endParaRPr b="0" lang="en-US" sz="2000" spc="-1" strike="noStrike">
              <a:solidFill>
                <a:srgbClr val="000000"/>
              </a:solidFill>
              <a:latin typeface="Times New Roman"/>
            </a:endParaRPr>
          </a:p>
        </p:txBody>
      </p:sp>
      <p:sp>
        <p:nvSpPr>
          <p:cNvPr id="320" name=""/>
          <p:cNvSpPr/>
          <p:nvPr/>
        </p:nvSpPr>
        <p:spPr>
          <a:xfrm>
            <a:off x="996840" y="2016000"/>
            <a:ext cx="676116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La delibera di trasformazione devolve il valore effettivo del patrimonio (dedotti capitale versato e rivalutato; dividendi non ancora distribuiti) ai fondi mutualistici</a:t>
            </a:r>
            <a:endParaRPr b="0" lang="en-US" sz="2000" spc="-1" strike="noStrike">
              <a:solidFill>
                <a:srgbClr val="000000"/>
              </a:solidFill>
              <a:latin typeface="Times New Roman"/>
            </a:endParaRPr>
          </a:p>
        </p:txBody>
      </p:sp>
      <p:sp>
        <p:nvSpPr>
          <p:cNvPr id="321" name=""/>
          <p:cNvSpPr/>
          <p:nvPr/>
        </p:nvSpPr>
        <p:spPr>
          <a:xfrm>
            <a:off x="1052640" y="33037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allegano alla proposta di delibera relazione giurata da esperto designato dal Tribunale che attesti il valore effettivo  del patrimonio</a:t>
            </a:r>
            <a:endParaRPr b="0" lang="en-US" sz="2000" spc="-1" strike="noStrike">
              <a:solidFill>
                <a:srgbClr val="000000"/>
              </a:solidFill>
              <a:latin typeface="Times New Roman"/>
            </a:endParaRPr>
          </a:p>
        </p:txBody>
      </p:sp>
      <p:sp>
        <p:nvSpPr>
          <p:cNvPr id="322" name=""/>
          <p:cNvSpPr/>
          <p:nvPr/>
        </p:nvSpPr>
        <p:spPr>
          <a:xfrm>
            <a:off x="1108080" y="46465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ssemblea non delibera se la cooperativa non sia revisionata nell’anno precedente o non si sia fatta richiesta almeno 90 giorni pr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ALBO NAZIONALE COOPERATIV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09640" y="1916280"/>
            <a:ext cx="795816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elega al MINISTRO ATTIVITA’ PRODUTTIVE (MAP)art. 223-sexiesdecies disp.att. C.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uata con D.M. 23 giugno 2004 (GURI 13/7/2004 n. 162)</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ircolare MAP prot. 1579682 del 6/12/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COMPOSIZIONE</a:t>
            </a:r>
            <a:endParaRPr b="0" lang="en-US" sz="4000" spc="-1" strike="noStrike">
              <a:solidFill>
                <a:srgbClr val="333399"/>
              </a:solidFill>
              <a:latin typeface="Tahoma"/>
            </a:endParaRPr>
          </a:p>
        </p:txBody>
      </p:sp>
      <p:sp>
        <p:nvSpPr>
          <p:cNvPr id="326"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ddiviso in due sezion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prima      -    </a:t>
            </a:r>
            <a:r>
              <a:rPr b="1" lang="it-IT" sz="2400" spc="-1" strike="noStrike">
                <a:solidFill>
                  <a:srgbClr val="000000"/>
                </a:solidFill>
                <a:latin typeface="Tahoma"/>
              </a:rPr>
              <a:t>MUTUALITA’ PREVALENT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seconda  -     </a:t>
            </a:r>
            <a:r>
              <a:rPr b="1" lang="it-IT" sz="2400" spc="-1" strike="noStrike">
                <a:solidFill>
                  <a:srgbClr val="000000"/>
                </a:solidFill>
                <a:latin typeface="Tahoma"/>
              </a:rPr>
              <a:t>ALTRE DIVE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bo gestito dalla Direzione Generale enti cooperativi, tramite le Camere Commercio competenti per territori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253960"/>
            <a:ext cx="7772400" cy="387828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r.d. 25 giugno 1865, n. 2364 - il codice di commercio -non dettò alcuna norma in materi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1882 - primo testo di legge organica - codice di commerci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SUDDIVISIONE SEZIONI</a:t>
            </a:r>
            <a:endParaRPr b="0" lang="en-US" sz="4000" spc="-1" strike="noStrike">
              <a:solidFill>
                <a:srgbClr val="333399"/>
              </a:solidFill>
              <a:latin typeface="Tahoma"/>
            </a:endParaRPr>
          </a:p>
        </p:txBody>
      </p:sp>
      <p:sp>
        <p:nvSpPr>
          <p:cNvPr id="328" name="PlaceHolder 2"/>
          <p:cNvSpPr>
            <a:spLocks noGrp="1"/>
          </p:cNvSpPr>
          <p:nvPr>
            <p:ph/>
          </p:nvPr>
        </p:nvSpPr>
        <p:spPr>
          <a:xfrm>
            <a:off x="684000" y="1988640"/>
            <a:ext cx="8135640" cy="486900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gni sezione è suddivisa in 14 categorie:</a:t>
            </a:r>
            <a:endParaRPr b="0" lang="en-US" sz="24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roduzione e lavor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voro agricol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ocial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ferimento prodotti agricoli e allevamen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dilizie di abitazione</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esca</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um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ttagliant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spor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cooperativ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agrar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anche di credito cooperativ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e cooperative di garanzia e fid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ltre coopera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BILANCI</a:t>
            </a:r>
            <a:endParaRPr b="0" lang="en-US" sz="4000" spc="-1" strike="noStrike">
              <a:solidFill>
                <a:srgbClr val="333399"/>
              </a:solidFill>
              <a:latin typeface="Tahoma"/>
            </a:endParaRPr>
          </a:p>
        </p:txBody>
      </p:sp>
      <p:sp>
        <p:nvSpPr>
          <p:cNvPr id="330" name="PlaceHolder 2"/>
          <p:cNvSpPr>
            <a:spLocks noGrp="1"/>
          </p:cNvSpPr>
          <p:nvPr>
            <p:ph/>
          </p:nvPr>
        </p:nvSpPr>
        <p:spPr>
          <a:xfrm>
            <a:off x="900000" y="1752120"/>
            <a:ext cx="7981920" cy="480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operative iscritte, annualmente, depositano bilancio con modello approvato Ministero</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mministratori dichiarano permanenza mutualità prevalente, con documentazione in nota integrativa delle condizioni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zione generale su documentazione depositata ogni anno, su eventuale dichiarazione sostitutiva ex D.Lgs 220/02 e/o risultanze attività vigilanza, verifica esistenza requisiti per sezione e categori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ooperativa che perde requisito prevalenza iscritta d’ufficio in sezione ALTRE e variazione comunicata all’e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PROCEDURE</a:t>
            </a:r>
            <a:endParaRPr b="0" lang="en-US" sz="4000" spc="-1" strike="noStrike">
              <a:solidFill>
                <a:srgbClr val="333399"/>
              </a:solidFill>
              <a:latin typeface="Tahoma"/>
            </a:endParaRPr>
          </a:p>
        </p:txBody>
      </p:sp>
      <p:sp>
        <p:nvSpPr>
          <p:cNvPr id="332" name="PlaceHolder 2"/>
          <p:cNvSpPr>
            <a:spLocks noGrp="1"/>
          </p:cNvSpPr>
          <p:nvPr>
            <p:ph/>
          </p:nvPr>
        </p:nvSpPr>
        <p:spPr>
          <a:xfrm>
            <a:off x="900000" y="1905120"/>
            <a:ext cx="7981920" cy="4572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Registro Imprese riceve documentazione esamina completezza formale ed invia (entro 10 giorni lavorativi) alla Direzione Generale; per i bilanci il termine è di 30 giorni</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se riscontra incompletezze può invitare ad integrazione con un congruo termine</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generale tramite Camere di Commercio assegna numero iscrizione con sezione di appartenenza</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è reso disponibile tramite sistema Camere commercio</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a:t>
            </a:r>
            <a:r>
              <a:rPr b="0" lang="it-IT" sz="1800" spc="-1" strike="noStrike" u="sng">
                <a:solidFill>
                  <a:srgbClr val="000000"/>
                </a:solidFill>
                <a:uFillTx/>
                <a:latin typeface="Tahoma"/>
              </a:rPr>
              <a:t>deve</a:t>
            </a:r>
            <a:r>
              <a:rPr b="0" lang="it-IT" sz="1800" spc="-1" strike="noStrike">
                <a:solidFill>
                  <a:srgbClr val="000000"/>
                </a:solidFill>
                <a:latin typeface="Tahoma"/>
              </a:rPr>
              <a:t> essere indicato in atti e corrispondenza società</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può invitare a completare, integrare o rettificare domanda con congruo termine; in difetto rifiuta iscrizione mutualità prevalente con provvedimento motivato ed iscrive in sezione ALTR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sp>
        <p:nvSpPr>
          <p:cNvPr id="334" name="PlaceHolder 2"/>
          <p:cNvSpPr>
            <a:spLocks noGrp="1"/>
          </p:cNvSpPr>
          <p:nvPr>
            <p:ph/>
          </p:nvPr>
        </p:nvSpPr>
        <p:spPr>
          <a:xfrm>
            <a:off x="900000" y="2249280"/>
            <a:ext cx="798192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operative iscritte in altra sezione e/o categoria, o variazione iscrizi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richiedere con istanza scritta e motivata ries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rezione prima decisione può sentire Commissione centrale per le cooperativ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762120" y="726840"/>
            <a:ext cx="8192880" cy="540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800" spc="-1" strike="noStrike">
                <a:solidFill>
                  <a:srgbClr val="000000"/>
                </a:solidFill>
                <a:latin typeface="Tahoma"/>
              </a:rPr>
              <a:t>Variazioni 2009</a:t>
            </a:r>
            <a:endParaRPr b="0" lang="en-US" sz="7800" spc="-1" strike="noStrike">
              <a:solidFill>
                <a:srgbClr val="000000"/>
              </a:solidFill>
              <a:latin typeface="Tahoma"/>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304560"/>
            <a:ext cx="777240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1" lang="it-IT" sz="3200" spc="-1" strike="noStrike">
                <a:solidFill>
                  <a:srgbClr val="333399"/>
                </a:solidFill>
                <a:latin typeface="Tahoma"/>
              </a:rPr>
              <a:t>Art. 10 legge 23 luglio 2009 n. 99</a:t>
            </a:r>
            <a:r>
              <a:rPr b="0" lang="it-IT" sz="3200" spc="-1" strike="noStrike">
                <a:solidFill>
                  <a:srgbClr val="333399"/>
                </a:solidFill>
                <a:latin typeface="Tahoma"/>
              </a:rPr>
              <a:t> (GURI n. 176 31 luglio 2009 S.O.) entrata in vigore 15 agosto 2009</a:t>
            </a:r>
            <a:endParaRPr b="0" lang="en-US" sz="3200" spc="-1" strike="noStrike">
              <a:solidFill>
                <a:srgbClr val="333399"/>
              </a:solidFill>
              <a:latin typeface="Tahoma"/>
            </a:endParaRPr>
          </a:p>
        </p:txBody>
      </p:sp>
      <p:sp>
        <p:nvSpPr>
          <p:cNvPr id="337" name="PlaceHolder 2"/>
          <p:cNvSpPr>
            <a:spLocks noGrp="1"/>
          </p:cNvSpPr>
          <p:nvPr>
            <p:ph/>
          </p:nvPr>
        </p:nvSpPr>
        <p:spPr>
          <a:xfrm>
            <a:off x="1182600" y="1828440"/>
            <a:ext cx="7461360" cy="4303800"/>
          </a:xfrm>
          <a:prstGeom prst="rect">
            <a:avLst/>
          </a:prstGeom>
          <a:noFill/>
          <a:ln w="0">
            <a:noFill/>
          </a:ln>
        </p:spPr>
        <p:txBody>
          <a:bodyPr lIns="90000" rIns="90000" tIns="46800" bIns="46800" anchor="t">
            <a:normAutofit/>
          </a:bodyPr>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1 </a:t>
            </a:r>
            <a:r>
              <a:rPr b="0" lang="it-IT" sz="2000" spc="-1" strike="noStrike">
                <a:solidFill>
                  <a:srgbClr val="000000"/>
                </a:solidFill>
                <a:latin typeface="Tahoma"/>
              </a:rPr>
              <a:t>	</a:t>
            </a:r>
            <a:r>
              <a:rPr b="0" lang="it-IT" sz="2000" spc="-1" strike="noStrike">
                <a:solidFill>
                  <a:srgbClr val="000000"/>
                </a:solidFill>
                <a:latin typeface="Tahoma"/>
              </a:rPr>
              <a:t>(società cooperativa)</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5  </a:t>
            </a:r>
            <a:r>
              <a:rPr b="0" lang="it-IT" sz="2000" spc="-1" strike="noStrike">
                <a:solidFill>
                  <a:srgbClr val="000000"/>
                </a:solidFill>
                <a:latin typeface="Tahoma"/>
              </a:rPr>
              <a:t>	</a:t>
            </a:r>
            <a:r>
              <a:rPr b="0" lang="it-IT" sz="2000" spc="-1" strike="noStrike">
                <a:solidFill>
                  <a:srgbClr val="000000"/>
                </a:solidFill>
                <a:latin typeface="Tahoma"/>
              </a:rPr>
              <a:t>(pubblicità att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xiesdecies disp.att. (comunicazion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ptiesdecies disp.att.(liquid. Autor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45-octies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perdita mutual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D.Lgs. 220/2002</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339"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ahoma"/>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15 (dal 15 agosto 2009)</a:t>
            </a:r>
            <a:endParaRPr b="0" lang="en-US" sz="2000" spc="-1" strike="noStrike">
              <a:solidFill>
                <a:srgbClr val="000000"/>
              </a:solidFill>
              <a:latin typeface="Times New Roman"/>
            </a:endParaRPr>
          </a:p>
        </p:txBody>
      </p:sp>
      <p:sp>
        <p:nvSpPr>
          <p:cNvPr id="341"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2" name=""/>
          <p:cNvSpPr/>
          <p:nvPr/>
        </p:nvSpPr>
        <p:spPr>
          <a:xfrm>
            <a:off x="720720" y="1735200"/>
            <a:ext cx="7259760" cy="38109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	</a:t>
            </a:r>
            <a:r>
              <a:rPr b="0" lang="it-IT" sz="1800" spc="-1" strike="noStrike">
                <a:solidFill>
                  <a:srgbClr val="000000"/>
                </a:solidFill>
                <a:latin typeface="Tahoma"/>
              </a:rPr>
              <a:t>il terzo comma viene abrogato</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Il comma obbligava le società cooperative ad indicare in tutti gli atti e la corrispondenza il numero di iscrizione all’albo nazionale</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44" name=""/>
          <p:cNvSpPr/>
          <p:nvPr/>
        </p:nvSpPr>
        <p:spPr>
          <a:xfrm>
            <a:off x="776160" y="1735200"/>
            <a:ext cx="7037640" cy="3722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
        <p:nvSpPr>
          <p:cNvPr id="345" name=""/>
          <p:cNvSpPr/>
          <p:nvPr/>
        </p:nvSpPr>
        <p:spPr>
          <a:xfrm>
            <a:off x="1371600" y="2057400"/>
            <a:ext cx="6172200" cy="92052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749"/>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sexiesdecies (dal 15 agosto 2009)</a:t>
            </a:r>
            <a:endParaRPr b="0" lang="en-US" sz="2000" spc="-1" strike="noStrike">
              <a:solidFill>
                <a:srgbClr val="000000"/>
              </a:solidFill>
              <a:latin typeface="Times New Roman"/>
            </a:endParaRPr>
          </a:p>
        </p:txBody>
      </p:sp>
      <p:sp>
        <p:nvSpPr>
          <p:cNvPr id="347"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8" name=""/>
          <p:cNvSpPr/>
          <p:nvPr/>
        </p:nvSpPr>
        <p:spPr>
          <a:xfrm>
            <a:off x="996840" y="2514600"/>
            <a:ext cx="6983640" cy="36334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Entro il 30 giugno 2004, il Ministro delle attività produttive predispone un Albo delle società cooperative tenuto a cura del Ministero delle attività produttive, ove si iscrivono le cooperative a mutualità prevalente, e a tal fine consente di </a:t>
            </a:r>
            <a:r>
              <a:rPr b="0" lang="it-IT" sz="1800" spc="-1" strike="noStrike">
                <a:solidFill>
                  <a:srgbClr val="00e4a8"/>
                </a:solidFill>
                <a:latin typeface="Tahoma"/>
              </a:rPr>
              <a:t>(depositare i bilanci attraverso strumenti di comunicazione informatica) </a:t>
            </a:r>
            <a:r>
              <a:rPr b="0" lang="it-IT" sz="1800" spc="-1" strike="noStrike" u="sng">
                <a:solidFill>
                  <a:srgbClr val="ff0000"/>
                </a:solidFill>
                <a:uFillTx/>
                <a:latin typeface="Tahoma"/>
              </a:rPr>
              <a:t>comunicare annualmente attraverso strumenti di comunicazione informatica le notizie di bilancio, anche ai fini della dimostrazione del possesso del requisito di cui all’articolo 2513 del codice, all’amministrazione presso la quale è tenuto l’albo. L’omessa comunicazione comporta l’applicazione della sanzione amministrativa della sospensione semestrale di ogni attività dell’ente, intesa come divieto di assumere nuove eventuali obbligazioni contrattu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600" spc="-1" strike="noStrike">
                <a:solidFill>
                  <a:srgbClr val="000000"/>
                </a:solidFill>
                <a:latin typeface="Tahoma"/>
                <a:ea typeface="Times New Roman"/>
              </a:rPr>
              <a:t>cooperative -  semplici varianti delle società commerciali</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affinità morfologica&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carattere commerciale&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codice prevede che qualità cooperativa indicata in tutti  gli atti della società (art. 221, comma 4).</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facoltà costituzione qualsiasi delle forme di società commerciali (artt. 219 e 220)</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possibilità introduzione diversi gradi responsabilità dei soci.</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 – septiesdecies (dal 15 agosto 2009)</a:t>
            </a:r>
            <a:endParaRPr b="0" lang="en-US" sz="2000" spc="-1" strike="noStrike">
              <a:solidFill>
                <a:srgbClr val="000000"/>
              </a:solidFill>
              <a:latin typeface="Times New Roman"/>
            </a:endParaRPr>
          </a:p>
        </p:txBody>
      </p:sp>
      <p:sp>
        <p:nvSpPr>
          <p:cNvPr id="350" name=""/>
          <p:cNvSpPr/>
          <p:nvPr/>
        </p:nvSpPr>
        <p:spPr>
          <a:xfrm>
            <a:off x="996840" y="2406600"/>
            <a:ext cx="6872400" cy="9205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Vengono soppresse le parole  “entro il 31 dicembre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41400" y="106668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  (dal 15 agosto 2009)</a:t>
            </a:r>
            <a:endParaRPr b="0" lang="en-US" sz="2000" spc="-1" strike="noStrike">
              <a:solidFill>
                <a:srgbClr val="000000"/>
              </a:solidFill>
              <a:latin typeface="Times New Roman"/>
            </a:endParaRPr>
          </a:p>
        </p:txBody>
      </p:sp>
      <p:sp>
        <p:nvSpPr>
          <p:cNvPr id="352" name=""/>
          <p:cNvSpPr/>
          <p:nvPr/>
        </p:nvSpPr>
        <p:spPr>
          <a:xfrm>
            <a:off x="996840" y="1981080"/>
            <a:ext cx="6872400" cy="422424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 comma 2, secondo periodo, viene sostituita la parola “amministrativa” con “esclusiva”  ed infine da “anche in occasione ………………” viene tutto soppresso.</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4 viene aggiunto il comma 4-bis:</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t>
            </a:r>
            <a:r>
              <a:rPr b="0" lang="it-IT" sz="2000" spc="-1" strike="noStrike">
                <a:solidFill>
                  <a:srgbClr val="000000"/>
                </a:solidFill>
                <a:latin typeface="Tahoma"/>
              </a:rPr>
              <a:t>Ferme le specifiche disposizioni civilistiche, gli uffici amministrativi preposti alla vigilanza cooperativa ai sensi dei commi precedenti assolvono i compiti loro affidati dalla legge esclusivamente nell’interesse pubbl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2 (dal 15 agosto 2009)</a:t>
            </a:r>
            <a:endParaRPr b="0" lang="en-US" sz="2000" spc="-1" strike="noStrike">
              <a:solidFill>
                <a:srgbClr val="000000"/>
              </a:solidFill>
              <a:latin typeface="Times New Roman"/>
            </a:endParaRPr>
          </a:p>
        </p:txBody>
      </p:sp>
      <p:sp>
        <p:nvSpPr>
          <p:cNvPr id="354" name=""/>
          <p:cNvSpPr/>
          <p:nvPr/>
        </p:nvSpPr>
        <p:spPr>
          <a:xfrm>
            <a:off x="996840" y="2406600"/>
            <a:ext cx="6262920" cy="22003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5 viene aggiunto il comma 5-bis che irroga la sanzione della sospensione semestrale di ogni attività, nel caso in cui non si ottemperi anche parzialmente alla diffida impartita in sede di vigil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FISCA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41400" y="1959120"/>
            <a:ext cx="6816600" cy="3360600"/>
          </a:xfrm>
          <a:prstGeom prst="rect">
            <a:avLst/>
          </a:prstGeom>
          <a:noFill/>
          <a:ln w="0">
            <a:noFill/>
          </a:ln>
        </p:spPr>
        <p:style>
          <a:lnRef idx="0"/>
          <a:fillRef idx="0"/>
          <a:effectRef idx="0"/>
          <a:fontRef idx="minor"/>
        </p:style>
        <p:txBody>
          <a:bodyPr lIns="66960" rIns="66960" tIns="33480" bIns="33480" anchor="t">
            <a:spAutoFit/>
          </a:bodyPr>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LA TASSAZIONE</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DELLE </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SOCIETA’ COOPERATIVE   </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96840" y="839880"/>
            <a:ext cx="6983640" cy="511992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L. n. 904 del 16/12/1977</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12</a:t>
            </a:r>
            <a:endParaRPr b="0" lang="en-US" sz="2300" spc="-1" strike="noStrike">
              <a:solidFill>
                <a:srgbClr val="000000"/>
              </a:solidFill>
              <a:latin typeface="Times New Roman"/>
            </a:endParaRPr>
          </a:p>
          <a:p>
            <a:pPr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ahoma"/>
                <a:ea typeface="Times New Roman"/>
              </a:rPr>
              <a:t>Fermo restando quanto disposto nel titolo III del D.P.R. 29 settembre 1973 n. 601, e successive modificazioni ed integrazioni, non concorrono a formare il reddito imponibile delle società cooperative e dei loro consorzi le somme destinate alle riserve indivisibili a condizione che sia esclusa la possibilità di distribuirle tra i soci sotto qualsiasi forma, sia durante la vita dell’ente che all’atto dello sciglimento.</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59"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996840" y="2127240"/>
            <a:ext cx="6540480" cy="285048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63 DEL 15/04/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12 del 15/06/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6</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61"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6840" y="279360"/>
            <a:ext cx="6040440" cy="201600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LEGGE 30/12/2004 N. 311</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t>
            </a:r>
            <a:r>
              <a:rPr b="1" lang="it-IT" sz="2300" spc="-1" strike="noStrike" u="sng">
                <a:solidFill>
                  <a:srgbClr val="000000"/>
                </a:solidFill>
                <a:uFillTx/>
                <a:latin typeface="Tahoma"/>
                <a:ea typeface="Times New Roman"/>
              </a:rPr>
              <a:t>FINANZIARIA 2005”</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Commi 460-466</a:t>
            </a:r>
            <a:endParaRPr b="0" lang="en-US" sz="2300" spc="-1" strike="noStrike">
              <a:solidFill>
                <a:srgbClr val="000000"/>
              </a:solidFill>
              <a:latin typeface="Times New Roman"/>
            </a:endParaRPr>
          </a:p>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3" name=""/>
          <p:cNvSpPr/>
          <p:nvPr/>
        </p:nvSpPr>
        <p:spPr>
          <a:xfrm>
            <a:off x="665280" y="3191040"/>
            <a:ext cx="7813440" cy="33624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364" name=""/>
          <p:cNvSpPr/>
          <p:nvPr/>
        </p:nvSpPr>
        <p:spPr>
          <a:xfrm>
            <a:off x="996840" y="2239920"/>
            <a:ext cx="7039080" cy="3287880"/>
          </a:xfrm>
          <a:prstGeom prst="rect">
            <a:avLst/>
          </a:prstGeom>
          <a:noFill/>
          <a:ln w="0">
            <a:noFill/>
          </a:ln>
        </p:spPr>
        <p:style>
          <a:lnRef idx="0"/>
          <a:fillRef idx="0"/>
          <a:effectRef idx="0"/>
          <a:fontRef idx="minor"/>
        </p:style>
        <p:txBody>
          <a:bodyPr lIns="66960" rIns="66960" tIns="33480" bIns="33480" anchor="t">
            <a:spAutoFit/>
          </a:bodyPr>
          <a:p>
            <a:pPr algn="just">
              <a:spcBef>
                <a:spcPts val="1250"/>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r>
              <a:rPr b="0" lang="it-IT" sz="2000" spc="-1" strike="noStrike">
                <a:solidFill>
                  <a:srgbClr val="000000"/>
                </a:solidFill>
                <a:latin typeface="Times New Roman"/>
                <a:ea typeface="Times New Roman"/>
              </a:rPr>
              <a:t>ART. 12 LEGGE 19/12/1977 n° 904 per le società cooperative a mutualità prevalente, iscritte all’albo nazionale non si applica: </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20% degli utili netti annuali per le cooperative agricole e loro consorzi (D.Lgs. 18/05/2001 n° 228) e cooperative piccola pesca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30% degli utili netti annuali delle altre cooperative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55% degli utili netti annuali delle coop.consumo (mod. art. 82 comma 28 D.L. n. 112 del 25/06/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77920" y="2286000"/>
            <a:ext cx="7978680" cy="4056480"/>
          </a:xfrm>
          <a:prstGeom prst="rect">
            <a:avLst/>
          </a:prstGeom>
          <a:noFill/>
          <a:ln w="0">
            <a:noFill/>
          </a:ln>
        </p:spPr>
        <p:style>
          <a:lnRef idx="0"/>
          <a:fillRef idx="0"/>
          <a:effectRef idx="0"/>
          <a:fontRef idx="minor"/>
        </p:style>
        <p:txBody>
          <a:bodyPr lIns="66960" rIns="66960" tIns="33480" bIns="33480" anchor="t">
            <a:spAutoFit/>
          </a:bodyPr>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0 D.P.R. 601/73 non si applica limitatamente al 20% di cui      sopra.</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1 D.P.R. 601/73 si applica limitatamente al reddito imponibile inerente l’indeducibilità IRAP.</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Queste disposizioni non si applicano alle cooperative sociali e loro consorzi (legge 381/91). Resta esente da imposte e deducibilità 3% legge 59/92 art. 11.</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Cooperative a mutualità non prevalente si applica l’art. 12 legge 904/77 limitatamente alla quota della riserva legale indivisibile del 30%.</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Disposizioni si applicano ai periodi di imposta successivi a quello in corso al 31 dicembre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0720" y="2590920"/>
            <a:ext cx="742644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sono </a:t>
            </a:r>
            <a:r>
              <a:rPr b="1" lang="it-IT" sz="2300" spc="-1" strike="noStrike">
                <a:solidFill>
                  <a:srgbClr val="000000"/>
                </a:solidFill>
                <a:latin typeface="Times New Roman"/>
                <a:ea typeface="Times New Roman"/>
              </a:rPr>
              <a:t>indeducibili </a:t>
            </a:r>
            <a:r>
              <a:rPr b="0" lang="it-IT" sz="2300" spc="-1" strike="noStrike">
                <a:solidFill>
                  <a:srgbClr val="000000"/>
                </a:solidFill>
                <a:latin typeface="Times New Roman"/>
                <a:ea typeface="Times New Roman"/>
              </a:rPr>
              <a:t>per la parte </a:t>
            </a:r>
            <a:r>
              <a:rPr b="0" lang="it-IT" sz="2300" spc="-1" strike="noStrike">
                <a:solidFill>
                  <a:srgbClr val="000000"/>
                </a:solidFill>
                <a:latin typeface="Times New Roman"/>
                <a:ea typeface="Times New Roman"/>
              </a:rPr>
              <a:t>	</a:t>
            </a:r>
            <a:r>
              <a:rPr b="1" lang="it-IT" sz="2300" spc="-1" strike="noStrike">
                <a:solidFill>
                  <a:srgbClr val="000000"/>
                </a:solidFill>
                <a:latin typeface="Times New Roman"/>
                <a:ea typeface="Times New Roman"/>
              </a:rPr>
              <a:t>eccedente </a:t>
            </a:r>
            <a:r>
              <a:rPr b="1"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l’ammontare calcolato in riferimento alla misura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minima del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tasso per B.P.F. aumentata dello 0,9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icalcata  su quella delle società anonim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pubblicità delle modifiche statutari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obbligazio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esponsabilità degli amministrator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assemblee general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bilancio</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sindac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96840" y="3022560"/>
            <a:ext cx="709452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ugli 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che non soddisfano requisiti piccole e micro imprese raccomandazione  2003/361/CE, ritenuta a titolo di imposta al 2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8" name=""/>
          <p:cNvSpPr/>
          <p:nvPr/>
        </p:nvSpPr>
        <p:spPr>
          <a:xfrm>
            <a:off x="2286000" y="839880"/>
            <a:ext cx="4862520" cy="1735200"/>
          </a:xfrm>
          <a:prstGeom prst="rect">
            <a:avLst/>
          </a:prstGeom>
          <a:noFill/>
          <a:ln w="0">
            <a:noFill/>
          </a:ln>
        </p:spPr>
        <p:style>
          <a:lnRef idx="0"/>
          <a:fillRef idx="0"/>
          <a:effectRef idx="0"/>
          <a:fontRef idx="minor"/>
        </p:style>
        <p:txBody>
          <a:bodyPr lIns="66960" rIns="66960" tIns="33480" bIns="33480" anchor="t">
            <a:spAutoFit/>
          </a:bodyPr>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MANOVRA D’ESTATE</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112 DEL 25/06/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33 6/08/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82 Comma 27</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76160" y="1981080"/>
            <a:ext cx="775836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1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41400" y="205740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41400" y="198108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2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12:41Z</dcterms:created>
  <dc:creator/>
  <dc:description/>
  <dc:language>en-US</dc:language>
  <cp:lastModifiedBy>UFFICIO</cp:lastModifiedBy>
  <dcterms:modified xsi:type="dcterms:W3CDTF">2010-12-14T11:56:15Z</dcterms:modified>
  <cp:revision>39</cp:revision>
  <dc:subject/>
  <dc:title>Presentazione di PowerPoint</dc:title>
</cp:coreProperties>
</file>